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093B-FE69-4338-87CD-602BF5CBE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5113-65C4-431A-9CCB-3135A864E9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47AF-787E-453D-B427-24F35A085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422712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42CB0-0B5A-4867-9272-A985CC05D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42271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7840" y="42271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2CEA9-C7AE-4478-8542-810DCF38F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90680" y="16002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6080" y="16002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422712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90680" y="422712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6080" y="422712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158FC-0DA5-4E90-AB60-2BF9D754B0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98B79-B700-4C85-B06B-1B2A066A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F1F9D-F5B4-4C46-87BB-1B373491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09F91-50AE-4AEF-9A14-AB79CF20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88504-E22A-4A07-9EF6-407EAC8B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07B12-769E-4DAF-AA36-C2AA27E8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686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05761-1149-4C00-BA5E-3B620316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2271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0ED7A-C5A3-46D5-A0C0-DF95B7CA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7BA9C-447F-4F5D-B52C-390841154E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7840" y="42271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4DA1F-897E-44F8-9ED8-B738FEDC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22712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F7062-28AD-40FA-A500-5CB16ED2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422712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CEF3B-5FAF-4ABE-A509-02611C72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42271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7840" y="42271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16971-AA32-4372-9090-25DEB58E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90680" y="16002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6080" y="16002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422712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90680" y="422712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6080" y="422712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FF835-A8DB-40BE-844C-8E264D7A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B4AA9-0E09-495D-B97F-0351F64F5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95EA-FDBB-43E6-83A1-BEDD5B99F5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37443-DF71-47EF-BCD7-0336932F9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686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FF21-20BB-4196-A569-E251D14BF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42271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CD730-623A-4AB9-9078-1939228CB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7840" y="42271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4D69A-9557-4CA2-B93A-3A72C3F0C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422712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0E028-7C67-424F-9E77-BB5ACB5FC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0B07-3590-4F9E-80A2-72E9943694B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" name="Group 15"/>
          <p:cNvGrpSpPr/>
          <p:nvPr/>
        </p:nvGrpSpPr>
        <p:grpSpPr>
          <a:xfrm>
            <a:off x="152280" y="152280"/>
            <a:ext cx="8915400" cy="1143000"/>
            <a:chOff x="152280" y="152280"/>
            <a:chExt cx="8915400" cy="1143000"/>
          </a:xfrm>
        </p:grpSpPr>
        <p:sp>
          <p:nvSpPr>
            <p:cNvPr id="7" name="Line 10"/>
            <p:cNvSpPr/>
            <p:nvPr/>
          </p:nvSpPr>
          <p:spPr>
            <a:xfrm>
              <a:off x="152280" y="1257480"/>
              <a:ext cx="8915400" cy="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68120" y="152280"/>
              <a:ext cx="0" cy="114300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5E5F-8C7F-40CA-8C35-B35C205D154C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120E-40C1-4806-A5BA-39CF4F09AE2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Kochi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Compelling Face of Governance in the ICT Era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World of Telecommunica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Whether one needs that much of data speed or not, 4G will be a must-have  for every one who could afford, by 2015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World of Computing Resour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ince inception of Computer, hard-drive has been part and parcel of i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loud Computing is going to make a significant dent in this concept in coming year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pplications will be used without installation and access to personal files in any computer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loud Computing will grow @20-30% in next 5-7 years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World of Remote Sens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he archaic  push-button remote control will haveserious threat from Voice-operated Remote Control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ll household gadgets hitherto controlled by push-button remote device will be replaced by voice remote control by next 5-7 years ! 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world of Human Cognitive Technolog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08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iri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e intelligent personal assistant, by Apple in the Mobile devices, which recognises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natural voice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uses voice to sen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messages, schedule meetings, place phone calls, and mor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Iris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eveloped by Narayan Babu and his team at a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1"/>
              </a:rPr>
              <a:t>Kochi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 based firm named Dexetra, for Android users, supports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atuaral Language Processing (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NLP)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or call, text, contact lookup, and web search actions including playing videos, looking for lyrics, movies reviews, recipes, news, weather, places and other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nd many more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hat we see in the futuristic science fiction movies, appears to be coming true in next few years !!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-Governanc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47920" y="3200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Transforming the Governmen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828800" y="48769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B3DF-BB5C-4080-956B-E8776F03608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finition of e-Governa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-Governance is a spectrum of technology inspired strategies adopted by governance to achiev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Transformation and efficiency in their administration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Agile and responsive service delivery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Strengthened transparency and accountability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An enhancement capacity to function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AC2D-A15D-425A-B724-E5FE71D0A63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sired outcomes from e-Governa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mproved citizen servic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apacity Developmen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itizens – “Knowledge Society”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Government – “Information Workers”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Businesses – “New Economy”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etter integration of informatio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conomic developmen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mproved accountability / transparency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er Agency Benefit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Reduced cost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Improved reliability and quality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D120-91F3-471F-8F8D-439967D3D98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s there any distinction between e-Governance and e-Government 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-Governance subsumes e-Government as Governance is a broader notion than governmen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-Governance refers to processes which use ICT for enabling transactions between stakeholders and the governmen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-Government reflects efficient delivery of services by using emerging technologi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-Governance concept encompasses the State’s institutional arrangements, decision-making processes, relationships between government and public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-Government reflects largely on improving administrative efficiency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B32A-D9B4-45A6-A963-D9F83FC758E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eatures of Good Governa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5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quity &amp; inclusiveness of all citizen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itizen-centric process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sponsiveness of institutions &amp; processes to all stakeholder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Greater participation by citizen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ccountability of decision makers to the public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ransparency through access to informatio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ffectiveness &amp; efficiency of processes and institution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ule of Law – fair and impartial legal framework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 algn="ctr">
              <a:lnSpc>
                <a:spcPct val="10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2d050"/>
                </a:solidFill>
                <a:latin typeface="Times New Roman"/>
              </a:rPr>
              <a:t>All these above  can be achieved by e-Governance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388D-0F08-43FC-927F-E63A74633E7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enefits of e-Governa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0" name="Group 15"/>
          <p:cNvGrpSpPr/>
          <p:nvPr/>
        </p:nvGrpSpPr>
        <p:grpSpPr>
          <a:xfrm>
            <a:off x="1676520" y="1384200"/>
            <a:ext cx="6172200" cy="5333760"/>
            <a:chOff x="1676520" y="1384200"/>
            <a:chExt cx="6172200" cy="5333760"/>
          </a:xfrm>
        </p:grpSpPr>
        <p:grpSp>
          <p:nvGrpSpPr>
            <p:cNvPr id="141" name="Group 7"/>
            <p:cNvGrpSpPr/>
            <p:nvPr/>
          </p:nvGrpSpPr>
          <p:grpSpPr>
            <a:xfrm>
              <a:off x="1701720" y="1384200"/>
              <a:ext cx="6019560" cy="5333760"/>
              <a:chOff x="1701720" y="1384200"/>
              <a:chExt cx="6019560" cy="5333760"/>
            </a:xfrm>
          </p:grpSpPr>
          <p:sp>
            <p:nvSpPr>
              <p:cNvPr id="142" name="Oval 5"/>
              <p:cNvSpPr/>
              <p:nvPr/>
            </p:nvSpPr>
            <p:spPr>
              <a:xfrm>
                <a:off x="1701720" y="1384200"/>
                <a:ext cx="6019560" cy="53337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AutoShape 6"/>
              <p:cNvSpPr/>
              <p:nvPr/>
            </p:nvSpPr>
            <p:spPr>
              <a:xfrm>
                <a:off x="2810520" y="2246400"/>
                <a:ext cx="3783600" cy="3351960"/>
              </a:xfrm>
              <a:custGeom>
                <a:avLst/>
                <a:gdLst>
                  <a:gd name="textAreaLeft" fmla="*/ 1170000 w 3783600"/>
                  <a:gd name="textAreaRight" fmla="*/ 2613600 w 3783600"/>
                  <a:gd name="textAreaTop" fmla="*/ 1280520 h 3351960"/>
                  <a:gd name="textAreaBottom" fmla="*/ 2561040 h 3351960"/>
                </a:gdLst>
                <a:ahLst/>
                <a:rect l="textAreaLeft" t="textAreaTop" r="textAreaRight" b="textAreaBottom"/>
                <a:pathLst>
                  <a:path w="2293" h="2021">
                    <a:moveTo>
                      <a:pt x="0" y="772"/>
                    </a:moveTo>
                    <a:lnTo>
                      <a:pt x="876" y="772"/>
                    </a:lnTo>
                    <a:lnTo>
                      <a:pt x="1147" y="0"/>
                    </a:lnTo>
                    <a:lnTo>
                      <a:pt x="1417" y="772"/>
                    </a:lnTo>
                    <a:lnTo>
                      <a:pt x="2293" y="772"/>
                    </a:lnTo>
                    <a:lnTo>
                      <a:pt x="1584" y="1249"/>
                    </a:lnTo>
                    <a:lnTo>
                      <a:pt x="1855" y="2021"/>
                    </a:lnTo>
                    <a:lnTo>
                      <a:pt x="1147" y="1544"/>
                    </a:lnTo>
                    <a:lnTo>
                      <a:pt x="438" y="2021"/>
                    </a:lnTo>
                    <a:lnTo>
                      <a:pt x="709" y="1249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4" name="Text Box 8"/>
            <p:cNvSpPr/>
            <p:nvPr/>
          </p:nvSpPr>
          <p:spPr>
            <a:xfrm>
              <a:off x="3809880" y="3784680"/>
              <a:ext cx="160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20000"/>
                  </a:solidFill>
                  <a:latin typeface="Arial"/>
                </a:rPr>
                <a:t>Benefits of e-Governanc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1676520" y="337176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20000"/>
                  </a:solidFill>
                  <a:latin typeface="Arial"/>
                </a:rPr>
                <a:t>Cost Reduction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Text Box 10"/>
            <p:cNvSpPr/>
            <p:nvPr/>
          </p:nvSpPr>
          <p:spPr>
            <a:xfrm>
              <a:off x="5181480" y="5537160"/>
              <a:ext cx="152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20000"/>
                  </a:solidFill>
                  <a:latin typeface="Arial"/>
                </a:rPr>
                <a:t>Less Corruption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Text Box 11"/>
            <p:cNvSpPr/>
            <p:nvPr/>
          </p:nvSpPr>
          <p:spPr>
            <a:xfrm>
              <a:off x="6019920" y="337176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20000"/>
                  </a:solidFill>
                  <a:latin typeface="Arial"/>
                </a:rPr>
                <a:t>Increased Transparency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Text Box 12"/>
            <p:cNvSpPr/>
            <p:nvPr/>
          </p:nvSpPr>
          <p:spPr>
            <a:xfrm>
              <a:off x="2286000" y="523224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20000"/>
                  </a:solidFill>
                  <a:latin typeface="Arial"/>
                </a:rPr>
                <a:t>Revenue Growt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Text Box 13"/>
            <p:cNvSpPr/>
            <p:nvPr/>
          </p:nvSpPr>
          <p:spPr>
            <a:xfrm>
              <a:off x="3657600" y="177156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20000"/>
                  </a:solidFill>
                  <a:latin typeface="Arial"/>
                </a:rPr>
                <a:t>Greater Convenienc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derstanding government’s goals and objectiv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80520" y="9140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 order to enhance governance, Governments across the world has been embracing the following goals and objectives…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14000"/>
              </a:lnSpc>
              <a:spcBef>
                <a:spcPts val="601"/>
              </a:spcBef>
              <a:spcAft>
                <a:spcPts val="4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500"/>
                </a:solidFill>
                <a:latin typeface="Arial"/>
              </a:rPr>
              <a:t>Service Orientation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 make government more customer-friendly and service-conscious. Instead of being government agency centric, move towards citizen-centric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14000"/>
              </a:lnSpc>
              <a:spcBef>
                <a:spcPts val="601"/>
              </a:spcBef>
              <a:spcAft>
                <a:spcPts val="4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ductivity Enhancement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– trying to be more efficient, to provide more services without having the need to increase taxes. Review of key processes, eliminating and streamlining wherever possible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14000"/>
              </a:lnSpc>
              <a:spcBef>
                <a:spcPts val="601"/>
              </a:spcBef>
              <a:spcAft>
                <a:spcPts val="4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arket Alignment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umption is that public sector organization would be more efficient and effective if it were more like a private sector entity: use of market-style strategies and incentives to drive public policy, privatization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14000"/>
              </a:lnSpc>
              <a:spcBef>
                <a:spcPts val="601"/>
              </a:spcBef>
              <a:spcAft>
                <a:spcPts val="4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ecentralization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– breaking up the bureaucracy, empowering smaller agencies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14000"/>
              </a:lnSpc>
              <a:spcBef>
                <a:spcPts val="601"/>
              </a:spcBef>
              <a:spcAft>
                <a:spcPts val="4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eparation of Policymaking and Service Delivery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– eliminates a potential conflict on intentions and improves policymaking and monitoring. Easier to make the service delivery part more efficient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6666-439E-4D2E-BECC-5B731CA4CE9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CT &amp; e-Governa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143000" y="220968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rmation and Communications Technologies (ICTs) are only an enabler in e-Governa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vernments can leverage the ICTs to deliver information and services to citize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730B-9582-4226-8363-D2452BAA94F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-Government - 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115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-Government uses technology to transform relationships with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861840" indent="-404640">
              <a:lnSpc>
                <a:spcPct val="115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Citizen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861840" indent="-404640">
              <a:lnSpc>
                <a:spcPct val="115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Businesses and 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861840" indent="-404640">
              <a:lnSpc>
                <a:spcPct val="115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Other government agenci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5C4F-11BF-4E5E-899D-389902AC8C7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-Government - I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11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-Government is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861840" indent="-404640">
              <a:lnSpc>
                <a:spcPct val="110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Not about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‘e’</a:t>
            </a: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 but about Government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861840" indent="-404640">
              <a:lnSpc>
                <a:spcPct val="110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Not about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omputers &amp; websites</a:t>
            </a: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 but about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itizens &amp; business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861840" indent="-404640">
              <a:lnSpc>
                <a:spcPct val="110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Not about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ranslating</a:t>
            </a: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 processes but about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ransforming</a:t>
            </a: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 process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E85F-CBC7-4022-AB25-D7D672AC214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es of e-Government Applica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3429000" y="2743200"/>
            <a:ext cx="2286000" cy="19810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3505320" y="35193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Arial"/>
              </a:rPr>
              <a:t>Gover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143000" y="1981080"/>
            <a:ext cx="312408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vernment to Citiz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G2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5257800" y="1981080"/>
            <a:ext cx="312408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vernment to Business Enterpri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G2B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609480" y="5073480"/>
            <a:ext cx="373392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vernment to Employe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G2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5029200" y="5149800"/>
            <a:ext cx="373392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vernment to Gover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G2G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Line 13"/>
          <p:cNvSpPr/>
          <p:nvPr/>
        </p:nvSpPr>
        <p:spPr>
          <a:xfrm flipV="1">
            <a:off x="5562720" y="2743200"/>
            <a:ext cx="761760" cy="457200"/>
          </a:xfrm>
          <a:prstGeom prst="line">
            <a:avLst/>
          </a:prstGeom>
          <a:ln w="104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14"/>
          <p:cNvSpPr/>
          <p:nvPr/>
        </p:nvSpPr>
        <p:spPr>
          <a:xfrm flipH="1" flipV="1">
            <a:off x="2895120" y="2666880"/>
            <a:ext cx="685800" cy="533520"/>
          </a:xfrm>
          <a:prstGeom prst="line">
            <a:avLst/>
          </a:prstGeom>
          <a:ln w="104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15"/>
          <p:cNvSpPr/>
          <p:nvPr/>
        </p:nvSpPr>
        <p:spPr>
          <a:xfrm flipH="1">
            <a:off x="3047760" y="4495680"/>
            <a:ext cx="685800" cy="533520"/>
          </a:xfrm>
          <a:prstGeom prst="line">
            <a:avLst/>
          </a:prstGeom>
          <a:ln w="104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16"/>
          <p:cNvSpPr/>
          <p:nvPr/>
        </p:nvSpPr>
        <p:spPr>
          <a:xfrm>
            <a:off x="5562720" y="4343400"/>
            <a:ext cx="685800" cy="685800"/>
          </a:xfrm>
          <a:prstGeom prst="line">
            <a:avLst/>
          </a:prstGeom>
          <a:ln w="104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DBC6-CBBA-4B9B-A15A-8F48D9A291B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overnment to Citizen (G2C) - 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G2C can be delivered either manually or onlin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enefits to citizens from online servic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9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Cost &amp; time saving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9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Better quality of service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9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Easy access to information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9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Multiple delivery channel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9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Possibility of self service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9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Less corruption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89FD-2F25-40D7-ABB0-C48D631064E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overnment to Citizen (G2C) - I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xampl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9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Issue of record of rights and mutation of land record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9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Issue of driving licenc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9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Registration of property document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9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Delivery of various municipal servic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lnSpc>
                <a:spcPct val="125000"/>
              </a:lnSpc>
              <a:spcBef>
                <a:spcPts val="9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1DB0-1ABA-443B-877E-02A5F32675A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overnment to Citizen (G2C) - II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3200400" y="3657600"/>
            <a:ext cx="236232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6095880" y="5037120"/>
            <a:ext cx="1752840" cy="896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Albertus Extra Bold"/>
              </a:rPr>
              <a:t>Reducing administrative corrup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304920" y="1523880"/>
            <a:ext cx="2438280" cy="1431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Albertus Extra Bold"/>
              </a:rPr>
              <a:t>Improving delivery of services to citizens through a single window delivery mechanis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914400" y="4876920"/>
            <a:ext cx="1828800" cy="1163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Albertus Extra Bold"/>
              </a:rPr>
              <a:t>Enhancing transparency of Government activiti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5638680" y="1371600"/>
            <a:ext cx="3276720" cy="1698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Albertus Extra Bold"/>
              </a:rPr>
              <a:t>Empowering citizens through participation in decisions that affect them and through effective feedback and grievance redressal mechanism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Line 21"/>
          <p:cNvSpPr/>
          <p:nvPr/>
        </p:nvSpPr>
        <p:spPr>
          <a:xfrm flipV="1">
            <a:off x="4876920" y="3047760"/>
            <a:ext cx="685800" cy="533160"/>
          </a:xfrm>
          <a:prstGeom prst="line">
            <a:avLst/>
          </a:prstGeom>
          <a:ln w="104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Line 22"/>
          <p:cNvSpPr/>
          <p:nvPr/>
        </p:nvSpPr>
        <p:spPr>
          <a:xfrm flipH="1" flipV="1">
            <a:off x="2742840" y="3047760"/>
            <a:ext cx="685800" cy="533160"/>
          </a:xfrm>
          <a:prstGeom prst="line">
            <a:avLst/>
          </a:prstGeom>
          <a:ln w="104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Line 23"/>
          <p:cNvSpPr/>
          <p:nvPr/>
        </p:nvSpPr>
        <p:spPr>
          <a:xfrm flipH="1">
            <a:off x="2362320" y="4191120"/>
            <a:ext cx="838080" cy="609480"/>
          </a:xfrm>
          <a:prstGeom prst="line">
            <a:avLst/>
          </a:prstGeom>
          <a:ln w="104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Line 24"/>
          <p:cNvSpPr/>
          <p:nvPr/>
        </p:nvSpPr>
        <p:spPr>
          <a:xfrm>
            <a:off x="5562720" y="4191120"/>
            <a:ext cx="685800" cy="685800"/>
          </a:xfrm>
          <a:prstGeom prst="line">
            <a:avLst/>
          </a:prstGeom>
          <a:ln w="104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3634-1412-4565-AE6C-8105EE5D618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overnment to Citizen (G2C) - IV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505320" y="1523880"/>
            <a:ext cx="1752480" cy="896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Albertus Extra Bold"/>
              </a:rPr>
              <a:t>Lower costs of accessing servic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6400800" y="2711520"/>
            <a:ext cx="1981080" cy="1163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Albertus Extra Bold"/>
              </a:rPr>
              <a:t>Enhanced quality of service and greater convenienc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219320" y="5334120"/>
            <a:ext cx="1828800" cy="628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Albertus Extra Bold"/>
              </a:rPr>
              <a:t>Lower Corrup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638680" y="5029200"/>
            <a:ext cx="2590920" cy="1163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Albertus Extra Bold"/>
              </a:rPr>
              <a:t>Enhanced geographic coverage to reach larger segments of the popul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AutoShape 12"/>
          <p:cNvSpPr/>
          <p:nvPr/>
        </p:nvSpPr>
        <p:spPr>
          <a:xfrm>
            <a:off x="2606760" y="2514600"/>
            <a:ext cx="3581280" cy="2971800"/>
          </a:xfrm>
          <a:custGeom>
            <a:avLst/>
            <a:gdLst>
              <a:gd name="textAreaLeft" fmla="*/ 1106640 w 3581280"/>
              <a:gd name="textAreaRight" fmla="*/ 2474640 w 3581280"/>
              <a:gd name="textAreaTop" fmla="*/ 1135080 h 2971800"/>
              <a:gd name="textAreaBottom" fmla="*/ 2270160 h 2971800"/>
            </a:gdLst>
            <a:ahLst/>
            <a:rect l="textAreaLeft" t="textAreaTop" r="textAreaRight" b="textAreaBottom"/>
            <a:pathLst>
              <a:path w="3581400" h="2971800">
                <a:moveTo>
                  <a:pt x="4" y="1135123"/>
                </a:moveTo>
                <a:lnTo>
                  <a:pt x="1367981" y="1135132"/>
                </a:lnTo>
                <a:lnTo>
                  <a:pt x="1790700" y="0"/>
                </a:lnTo>
                <a:lnTo>
                  <a:pt x="2213419" y="1135132"/>
                </a:lnTo>
                <a:lnTo>
                  <a:pt x="3581396" y="1135123"/>
                </a:lnTo>
                <a:lnTo>
                  <a:pt x="2474675" y="1836664"/>
                </a:lnTo>
                <a:lnTo>
                  <a:pt x="2897415" y="2971790"/>
                </a:lnTo>
                <a:lnTo>
                  <a:pt x="1790700" y="2270238"/>
                </a:lnTo>
                <a:lnTo>
                  <a:pt x="683985" y="2971790"/>
                </a:lnTo>
                <a:lnTo>
                  <a:pt x="1106725" y="18366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3581280" y="390204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Arial"/>
              </a:rPr>
              <a:t>Direct Benefi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685800" y="2903400"/>
            <a:ext cx="1752480" cy="896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Albertus Extra Bold"/>
              </a:rPr>
              <a:t>Reduced time for obtaining servic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9847-562C-485F-ADAA-081B23928D7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5345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Government to Business Enterprises (G2B) - I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-Governance provides considerable benefits to businesses, such as: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Greater ease of doing business with Government – Single Window Concept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Improved transparency and speed of servic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Better investment climate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6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Hassle-free channel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B3CB-0B52-4190-A4B5-7E773BB1D18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Government to Business Enterprises (G2B) - II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enefits of Governmen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Tax collection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Custom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e-Procurement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vestments in such systems have a quicker payback due to increased revenue collectio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Arial"/>
              </a:rPr>
              <a:t>Understanding government’s goals and objectives - II 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1000" indent="0" algn="ctr">
              <a:lnSpc>
                <a:spcPct val="94000"/>
              </a:lnSpc>
              <a:spcBef>
                <a:spcPts val="711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 marL="351000" indent="-351000" algn="ctr">
              <a:lnSpc>
                <a:spcPct val="94000"/>
              </a:lnSpc>
              <a:spcBef>
                <a:spcPts val="751"/>
              </a:spcBef>
              <a:spcAft>
                <a:spcPts val="499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ccountability</a:t>
            </a: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ift in focus from processes and structures to outputs and outcomes; accountable to citizens and the public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51000" indent="-351000" algn="ctr">
              <a:lnSpc>
                <a:spcPct val="94000"/>
              </a:lnSpc>
              <a:spcBef>
                <a:spcPts val="751"/>
              </a:spcBef>
              <a:spcAft>
                <a:spcPts val="499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ustainability</a:t>
            </a: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cus on long term sustainability of initiatives rather than quick fixes and populist measure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51000" indent="-351000" algn="ctr">
              <a:lnSpc>
                <a:spcPct val="94000"/>
              </a:lnSpc>
              <a:spcBef>
                <a:spcPts val="675"/>
              </a:spcBef>
              <a:spcAft>
                <a:spcPts val="451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ransparency</a:t>
            </a: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 -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king government more accountable by making its operations more transparent and thus reducing the opportunities for corruption; and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51000" indent="-351000" algn="ctr">
              <a:lnSpc>
                <a:spcPct val="94000"/>
              </a:lnSpc>
              <a:spcBef>
                <a:spcPts val="711"/>
              </a:spcBef>
              <a:spcAft>
                <a:spcPts val="476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clusive development </a:t>
            </a: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viding development opportunities for all sections of society, especially benefiting rural and traditionally underserved communities</a:t>
            </a: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.</a:t>
            </a:r>
            <a:endParaRPr b="1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 marL="35100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Rounded Rectangular Callout 3"/>
          <p:cNvSpPr/>
          <p:nvPr/>
        </p:nvSpPr>
        <p:spPr>
          <a:xfrm>
            <a:off x="4191120" y="5638680"/>
            <a:ext cx="3657600" cy="990720"/>
          </a:xfrm>
          <a:prstGeom prst="wedgeRoundRectCallout">
            <a:avLst>
              <a:gd name="adj1" fmla="val -36810"/>
              <a:gd name="adj2" fmla="val -75597"/>
              <a:gd name="adj3" fmla="val 16667"/>
            </a:avLst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These goals drive the agenda for transformation  and reform in govern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6063-605E-4324-8589-AB9D1BC835D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overnment to Government (G2G) - 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G2G applications aim to improve data sharing and communication among Government agencies through: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Automation of process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Electronic workflow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Better monitoring of civil servant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EA99-B6DB-42D9-A55A-24137C97A8F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overnment to Government (G2G) - I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Key benefit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Increased efficiency through automation of work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Improved mechanisms for performance monitoring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Higher productivity by interconnecting government offices / agencies by sharing data, documents and improve communication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Significant reduction in costs due to paperless environment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Reduction in administrative burden of decision maker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More informed decisions by Government due to readily available, easily retrievable and effective analysis of information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55F6-2FEC-45A3-BA4B-3A4877121AE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overnment to Employee (G2E) - 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xampl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Online services of payroll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Tax information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Pension related servic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Gradation list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Information on General Provident Fund Account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Administration related government orders / circulars / rules etc. 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Human resource training and development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F910-64BC-40FF-BBD6-80999B9CD82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overnment to Employee (G2E) - I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Key benefit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Empowering employees to manage their own transaction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Significant reduction in administrative cost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Increase transparency by providing vital, relevant information to government employees on matters related to their employment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EEA0-FD21-4F81-9528-E582AFFC070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volution of Government Servi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Times New Roman"/>
              </a:rPr>
              <a:t>Manual</a:t>
            </a:r>
            <a:endParaRPr b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Times New Roman"/>
              </a:rPr>
              <a:t>Service Islands (Client –Server / LAN)</a:t>
            </a:r>
            <a:endParaRPr b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Times New Roman"/>
              </a:rPr>
              <a:t>Connected Services (Wide Area Network)</a:t>
            </a:r>
            <a:endParaRPr b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Times New Roman"/>
              </a:rPr>
              <a:t>Seamless Services (Connected Government)</a:t>
            </a:r>
            <a:endParaRPr b="1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Arial"/>
              </a:rPr>
              <a:t>E-Governance:</a:t>
            </a:r>
            <a:br>
              <a:rPr sz="4400"/>
            </a:br>
            <a:r>
              <a:rPr b="1" i="1" lang="en-US" sz="4400" spc="-1" strike="noStrike">
                <a:solidFill>
                  <a:srgbClr val="ffffcc"/>
                </a:solidFill>
                <a:latin typeface="Arial"/>
              </a:rPr>
              <a:t>Opportunities &amp; Challeng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13716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Arial"/>
              </a:rPr>
              <a:t>Opportunities </a:t>
            </a:r>
            <a:br>
              <a:rPr sz="4400"/>
            </a:br>
            <a:r>
              <a:rPr b="1" i="1" lang="en-US" sz="4400" spc="-1" strike="noStrike">
                <a:solidFill>
                  <a:srgbClr val="ffffcc"/>
                </a:solidFill>
                <a:latin typeface="Arial"/>
              </a:rPr>
              <a:t>in</a:t>
            </a:r>
            <a:br>
              <a:rPr sz="4400"/>
            </a:br>
            <a:r>
              <a:rPr b="1" i="1" lang="en-US" sz="4400" spc="-1" strike="noStrike">
                <a:solidFill>
                  <a:srgbClr val="ffffcc"/>
                </a:solidFill>
                <a:latin typeface="Arial"/>
              </a:rPr>
              <a:t>e-Governanc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A8C2-E76A-4318-84DA-9132E7299B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1960" y="22392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-Governance provides opportunities to govern the leas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What are the elements to enable e-government service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20% Technology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35% BPR / GPR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40% Changing Organizational Behaviour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Institutional 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Individua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Lega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5% Luck !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0" y="5638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In the above scenario is there any sense to make </a:t>
            </a:r>
            <a:r>
              <a:rPr b="1" i="1" lang="en-US" sz="2800" spc="-1" strike="noStrike">
                <a:solidFill>
                  <a:srgbClr val="ffff00"/>
                </a:solidFill>
                <a:latin typeface="Book Antiqua"/>
              </a:rPr>
              <a:t>bad processes</a:t>
            </a: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 work </a:t>
            </a:r>
            <a:r>
              <a:rPr b="1" i="1" lang="en-US" sz="2800" spc="-1" strike="noStrike">
                <a:solidFill>
                  <a:srgbClr val="ffff00"/>
                </a:solidFill>
                <a:latin typeface="Book Antiqua"/>
              </a:rPr>
              <a:t>faster</a:t>
            </a: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 through </a:t>
            </a:r>
            <a:r>
              <a:rPr b="1" i="1" lang="en-US" sz="2800" spc="-1" strike="noStrike">
                <a:solidFill>
                  <a:srgbClr val="ffff00"/>
                </a:solidFill>
                <a:latin typeface="Book Antiqua"/>
              </a:rPr>
              <a:t>technology</a:t>
            </a: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0" y="1600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66"/>
                </a:solidFill>
                <a:latin typeface="Book Antiqua"/>
              </a:rPr>
              <a:t>Good governance is that which governs the least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47ED-AC86-4845-8C15-1FD758DB22A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n what we should do 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2052360"/>
            <a:ext cx="853416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llocate adequate time, effort &amp; fund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To re-engineer process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To changing organizational behaviour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e have to build capacity within for doing abov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e have to have commitment at the highest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1233360"/>
            <a:ext cx="8290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812880" y="1704960"/>
            <a:ext cx="1611360" cy="70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811080" y="2519280"/>
            <a:ext cx="147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lbertus Extra Bold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776160" y="3265560"/>
            <a:ext cx="1611360" cy="70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O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760320" y="4270320"/>
            <a:ext cx="147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lbertus Extra Bold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757080" y="5116680"/>
            <a:ext cx="1611360" cy="7034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EOO 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854520" y="1771560"/>
            <a:ext cx="352584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New Techn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3835440" y="3230640"/>
            <a:ext cx="352584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Old Organ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3803760" y="5203800"/>
            <a:ext cx="478764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Expensive Old Organ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685800" y="0"/>
            <a:ext cx="8272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Does this “equation” make any sense to you ? !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2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2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4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5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6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CT is a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evitable Force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rganizations have to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cide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whether to drive ICT or be driven over by it.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09480" y="266652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1B65-0B14-4E79-9F1B-F1C00D9E83D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61720"/>
            <a:ext cx="86868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-Government provides opportunities to advance the agenda of good governanc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95200" y="2130120"/>
            <a:ext cx="6306840" cy="34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ransparency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fficiency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iscal Reform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nti Corruption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mpowermen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overty reductio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4273-1E57-4471-8FAE-3D495AC9EB8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overnance Environment is chang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Government is increasingly setting agenda on Business objectives !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Sustainability through PPP business models for reduction of cost of delivery of servic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usinesses also do not want to remain in the back sea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They are also talking about social objectives -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SR</a:t>
            </a: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 !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3212-2A22-4031-9FEE-7749CA24D1F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Governance Business Model is changing</a:t>
            </a: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8" name="Group 1052"/>
          <p:cNvGrpSpPr/>
          <p:nvPr/>
        </p:nvGrpSpPr>
        <p:grpSpPr>
          <a:xfrm>
            <a:off x="533520" y="1752480"/>
            <a:ext cx="7863840" cy="4321440"/>
            <a:chOff x="533520" y="1752480"/>
            <a:chExt cx="7863840" cy="4321440"/>
          </a:xfrm>
        </p:grpSpPr>
        <p:sp>
          <p:nvSpPr>
            <p:cNvPr id="249" name="Oval 1029"/>
            <p:cNvSpPr/>
            <p:nvPr/>
          </p:nvSpPr>
          <p:spPr>
            <a:xfrm>
              <a:off x="3833640" y="2970360"/>
              <a:ext cx="1587240" cy="1587240"/>
            </a:xfrm>
            <a:prstGeom prst="ellipse">
              <a:avLst/>
            </a:prstGeom>
            <a:gradFill rotWithShape="0">
              <a:gsLst>
                <a:gs pos="0">
                  <a:srgbClr val="9bb1f6"/>
                </a:gs>
                <a:gs pos="100000">
                  <a:srgbClr val="063de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Rectangle 1030"/>
            <p:cNvSpPr/>
            <p:nvPr/>
          </p:nvSpPr>
          <p:spPr>
            <a:xfrm>
              <a:off x="1048680" y="2133720"/>
              <a:ext cx="1734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hange Agent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Rectangle 1031"/>
            <p:cNvSpPr/>
            <p:nvPr/>
          </p:nvSpPr>
          <p:spPr>
            <a:xfrm>
              <a:off x="533520" y="3254400"/>
              <a:ext cx="22986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st Reduction &amp; Contro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Rectangle 1032"/>
            <p:cNvSpPr/>
            <p:nvPr/>
          </p:nvSpPr>
          <p:spPr>
            <a:xfrm>
              <a:off x="1006200" y="4303800"/>
              <a:ext cx="17100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Downsizing/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structuring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Rectangle 1033"/>
            <p:cNvSpPr/>
            <p:nvPr/>
          </p:nvSpPr>
          <p:spPr>
            <a:xfrm>
              <a:off x="1577880" y="5332320"/>
              <a:ext cx="1733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ash Flow/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apital Asset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Rectangle 1035"/>
            <p:cNvSpPr/>
            <p:nvPr/>
          </p:nvSpPr>
          <p:spPr>
            <a:xfrm>
              <a:off x="4016160" y="5680080"/>
              <a:ext cx="114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Training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Rectangle 1036"/>
            <p:cNvSpPr/>
            <p:nvPr/>
          </p:nvSpPr>
          <p:spPr>
            <a:xfrm>
              <a:off x="5717880" y="5235480"/>
              <a:ext cx="26794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ccess to Technical Skill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Rectangle 1037"/>
            <p:cNvSpPr/>
            <p:nvPr/>
          </p:nvSpPr>
          <p:spPr>
            <a:xfrm>
              <a:off x="6518520" y="4168800"/>
              <a:ext cx="1283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ncreased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Flexibility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Rectangle 1038"/>
            <p:cNvSpPr/>
            <p:nvPr/>
          </p:nvSpPr>
          <p:spPr>
            <a:xfrm>
              <a:off x="7048800" y="3254400"/>
              <a:ext cx="1307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enters of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xpertise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Rectangle 1039"/>
            <p:cNvSpPr/>
            <p:nvPr/>
          </p:nvSpPr>
          <p:spPr>
            <a:xfrm>
              <a:off x="6526800" y="1959120"/>
              <a:ext cx="14418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Technology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hange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Rectangle 1040"/>
            <p:cNvSpPr/>
            <p:nvPr/>
          </p:nvSpPr>
          <p:spPr>
            <a:xfrm>
              <a:off x="3835440" y="3200400"/>
              <a:ext cx="165060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90000"/>
                  </a:solidFill>
                  <a:latin typeface="Albertus Extra Bold"/>
                </a:rPr>
                <a:t>New Governance Business Model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AutoShape 1041"/>
            <p:cNvSpPr/>
            <p:nvPr/>
          </p:nvSpPr>
          <p:spPr>
            <a:xfrm flipH="1">
              <a:off x="2633400" y="3570120"/>
              <a:ext cx="1039680" cy="304920"/>
            </a:xfrm>
            <a:prstGeom prst="rightArrow">
              <a:avLst>
                <a:gd name="adj1" fmla="val 50000"/>
                <a:gd name="adj2" fmla="val 139134"/>
              </a:avLst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AutoShape 1042"/>
            <p:cNvSpPr/>
            <p:nvPr/>
          </p:nvSpPr>
          <p:spPr>
            <a:xfrm rot="2580000">
              <a:off x="5023800" y="4862520"/>
              <a:ext cx="1120680" cy="268200"/>
            </a:xfrm>
            <a:prstGeom prst="rightArrow">
              <a:avLst>
                <a:gd name="adj1" fmla="val 50000"/>
                <a:gd name="adj2" fmla="val 170507"/>
              </a:avLst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AutoShape 1043"/>
            <p:cNvSpPr/>
            <p:nvPr/>
          </p:nvSpPr>
          <p:spPr>
            <a:xfrm rot="1800000">
              <a:off x="5439960" y="4272120"/>
              <a:ext cx="1058400" cy="284040"/>
            </a:xfrm>
            <a:prstGeom prst="rightArrow">
              <a:avLst>
                <a:gd name="adj1" fmla="val 50000"/>
                <a:gd name="adj2" fmla="val 152051"/>
              </a:avLst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AutoShape 1044"/>
            <p:cNvSpPr/>
            <p:nvPr/>
          </p:nvSpPr>
          <p:spPr>
            <a:xfrm>
              <a:off x="5711760" y="3591000"/>
              <a:ext cx="1058400" cy="284040"/>
            </a:xfrm>
            <a:prstGeom prst="rightArrow">
              <a:avLst>
                <a:gd name="adj1" fmla="val 50000"/>
                <a:gd name="adj2" fmla="val 152051"/>
              </a:avLst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AutoShape 1045"/>
            <p:cNvSpPr/>
            <p:nvPr/>
          </p:nvSpPr>
          <p:spPr>
            <a:xfrm flipH="1" rot="1860000">
              <a:off x="3004560" y="2634840"/>
              <a:ext cx="1058760" cy="285840"/>
            </a:xfrm>
            <a:prstGeom prst="rightArrow">
              <a:avLst>
                <a:gd name="adj1" fmla="val 50000"/>
                <a:gd name="adj2" fmla="val 151145"/>
              </a:avLst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AutoShape 1046"/>
            <p:cNvSpPr/>
            <p:nvPr/>
          </p:nvSpPr>
          <p:spPr>
            <a:xfrm rot="19620000">
              <a:off x="5400720" y="2723760"/>
              <a:ext cx="1058400" cy="284040"/>
            </a:xfrm>
            <a:prstGeom prst="rightArrow">
              <a:avLst>
                <a:gd name="adj1" fmla="val 50000"/>
                <a:gd name="adj2" fmla="val 152051"/>
              </a:avLst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AutoShape 1047"/>
            <p:cNvSpPr/>
            <p:nvPr/>
          </p:nvSpPr>
          <p:spPr>
            <a:xfrm flipH="1" rot="19920000">
              <a:off x="2823480" y="4296960"/>
              <a:ext cx="1040760" cy="304920"/>
            </a:xfrm>
            <a:prstGeom prst="rightArrow">
              <a:avLst>
                <a:gd name="adj1" fmla="val 50000"/>
                <a:gd name="adj2" fmla="val 139278"/>
              </a:avLst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AutoShape 1048"/>
            <p:cNvSpPr/>
            <p:nvPr/>
          </p:nvSpPr>
          <p:spPr>
            <a:xfrm flipH="1" rot="19020000">
              <a:off x="3236400" y="4869000"/>
              <a:ext cx="1039320" cy="304560"/>
            </a:xfrm>
            <a:prstGeom prst="rightArrow">
              <a:avLst>
                <a:gd name="adj1" fmla="val 50000"/>
                <a:gd name="adj2" fmla="val 139250"/>
              </a:avLst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AutoShape 1049"/>
            <p:cNvSpPr/>
            <p:nvPr/>
          </p:nvSpPr>
          <p:spPr>
            <a:xfrm flipH="1" rot="16200000">
              <a:off x="4222440" y="4978440"/>
              <a:ext cx="819000" cy="304560"/>
            </a:xfrm>
            <a:prstGeom prst="rightArrow">
              <a:avLst>
                <a:gd name="adj1" fmla="val 50000"/>
                <a:gd name="adj2" fmla="val 134468"/>
              </a:avLst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AutoShape 1050"/>
            <p:cNvSpPr/>
            <p:nvPr/>
          </p:nvSpPr>
          <p:spPr>
            <a:xfrm rot="16200000">
              <a:off x="4233240" y="2379600"/>
              <a:ext cx="749520" cy="253800"/>
            </a:xfrm>
            <a:prstGeom prst="rightArrow">
              <a:avLst>
                <a:gd name="adj1" fmla="val 50000"/>
                <a:gd name="adj2" fmla="val 147673"/>
              </a:avLst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Rectangle 1051"/>
            <p:cNvSpPr/>
            <p:nvPr/>
          </p:nvSpPr>
          <p:spPr>
            <a:xfrm>
              <a:off x="3430080" y="1752480"/>
              <a:ext cx="2113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Business Change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19B4-BA29-46F2-B438-0C943937819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overnance Environment is chang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73" name="Group 1028"/>
          <p:cNvGrpSpPr/>
          <p:nvPr/>
        </p:nvGrpSpPr>
        <p:grpSpPr>
          <a:xfrm>
            <a:off x="1066680" y="2273400"/>
            <a:ext cx="7314840" cy="3365640"/>
            <a:chOff x="1066680" y="2273400"/>
            <a:chExt cx="7314840" cy="3365640"/>
          </a:xfrm>
        </p:grpSpPr>
        <p:grpSp>
          <p:nvGrpSpPr>
            <p:cNvPr id="274" name="Group 1029"/>
            <p:cNvGrpSpPr/>
            <p:nvPr/>
          </p:nvGrpSpPr>
          <p:grpSpPr>
            <a:xfrm>
              <a:off x="2714400" y="2871720"/>
              <a:ext cx="3515760" cy="2633760"/>
              <a:chOff x="2714400" y="2871720"/>
              <a:chExt cx="3515760" cy="2633760"/>
            </a:xfrm>
          </p:grpSpPr>
          <p:grpSp>
            <p:nvGrpSpPr>
              <p:cNvPr id="275" name="Group 1030"/>
              <p:cNvGrpSpPr/>
              <p:nvPr/>
            </p:nvGrpSpPr>
            <p:grpSpPr>
              <a:xfrm>
                <a:off x="2970360" y="2871720"/>
                <a:ext cx="1121400" cy="846000"/>
                <a:chOff x="2970360" y="2871720"/>
                <a:chExt cx="1121400" cy="846000"/>
              </a:xfrm>
            </p:grpSpPr>
            <p:sp>
              <p:nvSpPr>
                <p:cNvPr id="276" name="Freeform 1031"/>
                <p:cNvSpPr/>
                <p:nvPr/>
              </p:nvSpPr>
              <p:spPr>
                <a:xfrm>
                  <a:off x="2970360" y="2992320"/>
                  <a:ext cx="696240" cy="565200"/>
                </a:xfrm>
                <a:custGeom>
                  <a:avLst/>
                  <a:gdLst>
                    <a:gd name="textAreaLeft" fmla="*/ 0 w 696240"/>
                    <a:gd name="textAreaRight" fmla="*/ 696600 w 696240"/>
                    <a:gd name="textAreaTop" fmla="*/ 0 h 565200"/>
                    <a:gd name="textAreaBottom" fmla="*/ 565200 h 565200"/>
                  </a:gdLst>
                  <a:ahLst/>
                  <a:rect l="textAreaLeft" t="textAreaTop" r="textAreaRight" b="textAreaBottom"/>
                  <a:pathLst>
                    <a:path w="466" h="356">
                      <a:moveTo>
                        <a:pt x="0" y="0"/>
                      </a:moveTo>
                      <a:lnTo>
                        <a:pt x="465" y="278"/>
                      </a:lnTo>
                      <a:lnTo>
                        <a:pt x="465" y="355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77" name="Freeform 1032"/>
                <p:cNvSpPr/>
                <p:nvPr/>
              </p:nvSpPr>
              <p:spPr>
                <a:xfrm>
                  <a:off x="2970360" y="2871720"/>
                  <a:ext cx="1121400" cy="725400"/>
                </a:xfrm>
                <a:custGeom>
                  <a:avLst/>
                  <a:gdLst>
                    <a:gd name="textAreaLeft" fmla="*/ 0 w 1121400"/>
                    <a:gd name="textAreaRight" fmla="*/ 1121760 w 1121400"/>
                    <a:gd name="textAreaTop" fmla="*/ 0 h 725400"/>
                    <a:gd name="textAreaBottom" fmla="*/ 725760 h 725400"/>
                  </a:gdLst>
                  <a:ahLst/>
                  <a:rect l="textAreaLeft" t="textAreaTop" r="textAreaRight" b="textAreaBottom"/>
                  <a:pathLst>
                    <a:path w="750" h="457">
                      <a:moveTo>
                        <a:pt x="0" y="76"/>
                      </a:moveTo>
                      <a:lnTo>
                        <a:pt x="180" y="0"/>
                      </a:lnTo>
                      <a:lnTo>
                        <a:pt x="620" y="253"/>
                      </a:lnTo>
                      <a:lnTo>
                        <a:pt x="749" y="176"/>
                      </a:lnTo>
                      <a:lnTo>
                        <a:pt x="749" y="405"/>
                      </a:lnTo>
                      <a:lnTo>
                        <a:pt x="310" y="456"/>
                      </a:lnTo>
                      <a:lnTo>
                        <a:pt x="465" y="354"/>
                      </a:lnTo>
                      <a:lnTo>
                        <a:pt x="0" y="76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78" name="Freeform 1033"/>
                <p:cNvSpPr/>
                <p:nvPr/>
              </p:nvSpPr>
              <p:spPr>
                <a:xfrm>
                  <a:off x="3433680" y="3516120"/>
                  <a:ext cx="657720" cy="201600"/>
                </a:xfrm>
                <a:custGeom>
                  <a:avLst/>
                  <a:gdLst>
                    <a:gd name="textAreaLeft" fmla="*/ 0 w 657720"/>
                    <a:gd name="textAreaRight" fmla="*/ 658080 w 657720"/>
                    <a:gd name="textAreaTop" fmla="*/ 0 h 201600"/>
                    <a:gd name="textAreaBottom" fmla="*/ 201960 h 201600"/>
                  </a:gdLst>
                  <a:ahLst/>
                  <a:rect l="textAreaLeft" t="textAreaTop" r="textAreaRight" b="textAreaBottom"/>
                  <a:pathLst>
                    <a:path w="440" h="127">
                      <a:moveTo>
                        <a:pt x="0" y="50"/>
                      </a:moveTo>
                      <a:lnTo>
                        <a:pt x="439" y="0"/>
                      </a:lnTo>
                      <a:lnTo>
                        <a:pt x="439" y="75"/>
                      </a:lnTo>
                      <a:lnTo>
                        <a:pt x="0" y="126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79" name="Group 1034"/>
              <p:cNvGrpSpPr/>
              <p:nvPr/>
            </p:nvGrpSpPr>
            <p:grpSpPr>
              <a:xfrm>
                <a:off x="4861800" y="2871720"/>
                <a:ext cx="1119960" cy="846000"/>
                <a:chOff x="4861800" y="2871720"/>
                <a:chExt cx="1119960" cy="846000"/>
              </a:xfrm>
            </p:grpSpPr>
            <p:sp>
              <p:nvSpPr>
                <p:cNvPr id="280" name="Freeform 1035"/>
                <p:cNvSpPr/>
                <p:nvPr/>
              </p:nvSpPr>
              <p:spPr>
                <a:xfrm>
                  <a:off x="5286240" y="2992320"/>
                  <a:ext cx="695160" cy="565200"/>
                </a:xfrm>
                <a:custGeom>
                  <a:avLst/>
                  <a:gdLst>
                    <a:gd name="textAreaLeft" fmla="*/ 0 w 695160"/>
                    <a:gd name="textAreaRight" fmla="*/ 695520 w 695160"/>
                    <a:gd name="textAreaTop" fmla="*/ 0 h 565200"/>
                    <a:gd name="textAreaBottom" fmla="*/ 565200 h 565200"/>
                  </a:gdLst>
                  <a:ahLst/>
                  <a:rect l="textAreaLeft" t="textAreaTop" r="textAreaRight" b="textAreaBottom"/>
                  <a:pathLst>
                    <a:path w="465" h="356">
                      <a:moveTo>
                        <a:pt x="464" y="0"/>
                      </a:moveTo>
                      <a:lnTo>
                        <a:pt x="0" y="278"/>
                      </a:lnTo>
                      <a:lnTo>
                        <a:pt x="0" y="355"/>
                      </a:lnTo>
                      <a:lnTo>
                        <a:pt x="464" y="75"/>
                      </a:lnTo>
                      <a:lnTo>
                        <a:pt x="464" y="0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1" name="Freeform 1036"/>
                <p:cNvSpPr/>
                <p:nvPr/>
              </p:nvSpPr>
              <p:spPr>
                <a:xfrm>
                  <a:off x="4861800" y="2871720"/>
                  <a:ext cx="1119960" cy="725400"/>
                </a:xfrm>
                <a:custGeom>
                  <a:avLst/>
                  <a:gdLst>
                    <a:gd name="textAreaLeft" fmla="*/ 0 w 1119960"/>
                    <a:gd name="textAreaRight" fmla="*/ 1120320 w 1119960"/>
                    <a:gd name="textAreaTop" fmla="*/ 0 h 725400"/>
                    <a:gd name="textAreaBottom" fmla="*/ 725760 h 725400"/>
                  </a:gdLst>
                  <a:ahLst/>
                  <a:rect l="textAreaLeft" t="textAreaTop" r="textAreaRight" b="textAreaBottom"/>
                  <a:pathLst>
                    <a:path w="749" h="457">
                      <a:moveTo>
                        <a:pt x="748" y="76"/>
                      </a:moveTo>
                      <a:lnTo>
                        <a:pt x="566" y="0"/>
                      </a:lnTo>
                      <a:lnTo>
                        <a:pt x="128" y="253"/>
                      </a:lnTo>
                      <a:lnTo>
                        <a:pt x="0" y="176"/>
                      </a:lnTo>
                      <a:lnTo>
                        <a:pt x="0" y="405"/>
                      </a:lnTo>
                      <a:lnTo>
                        <a:pt x="437" y="456"/>
                      </a:lnTo>
                      <a:lnTo>
                        <a:pt x="283" y="354"/>
                      </a:lnTo>
                      <a:lnTo>
                        <a:pt x="748" y="76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2" name="Freeform 1037"/>
                <p:cNvSpPr/>
                <p:nvPr/>
              </p:nvSpPr>
              <p:spPr>
                <a:xfrm>
                  <a:off x="4861800" y="3516120"/>
                  <a:ext cx="654480" cy="201600"/>
                </a:xfrm>
                <a:custGeom>
                  <a:avLst/>
                  <a:gdLst>
                    <a:gd name="textAreaLeft" fmla="*/ 0 w 654480"/>
                    <a:gd name="textAreaRight" fmla="*/ 654840 w 654480"/>
                    <a:gd name="textAreaTop" fmla="*/ 0 h 201600"/>
                    <a:gd name="textAreaBottom" fmla="*/ 201960 h 201600"/>
                  </a:gdLst>
                  <a:ahLst/>
                  <a:rect l="textAreaLeft" t="textAreaTop" r="textAreaRight" b="textAreaBottom"/>
                  <a:pathLst>
                    <a:path w="438" h="127">
                      <a:moveTo>
                        <a:pt x="437" y="50"/>
                      </a:moveTo>
                      <a:lnTo>
                        <a:pt x="0" y="0"/>
                      </a:lnTo>
                      <a:lnTo>
                        <a:pt x="0" y="75"/>
                      </a:lnTo>
                      <a:lnTo>
                        <a:pt x="437" y="126"/>
                      </a:lnTo>
                      <a:lnTo>
                        <a:pt x="437" y="50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83" name="Group 1038"/>
              <p:cNvGrpSpPr/>
              <p:nvPr/>
            </p:nvGrpSpPr>
            <p:grpSpPr>
              <a:xfrm>
                <a:off x="2714400" y="4152960"/>
                <a:ext cx="1389240" cy="1288800"/>
                <a:chOff x="2714400" y="4152960"/>
                <a:chExt cx="1389240" cy="1288800"/>
              </a:xfrm>
            </p:grpSpPr>
            <p:sp>
              <p:nvSpPr>
                <p:cNvPr id="284" name="Freeform 1039"/>
                <p:cNvSpPr/>
                <p:nvPr/>
              </p:nvSpPr>
              <p:spPr>
                <a:xfrm>
                  <a:off x="3022560" y="4551480"/>
                  <a:ext cx="887760" cy="890280"/>
                </a:xfrm>
                <a:custGeom>
                  <a:avLst/>
                  <a:gdLst>
                    <a:gd name="textAreaLeft" fmla="*/ 0 w 887760"/>
                    <a:gd name="textAreaRight" fmla="*/ 888120 w 887760"/>
                    <a:gd name="textAreaTop" fmla="*/ 0 h 890280"/>
                    <a:gd name="textAreaBottom" fmla="*/ 890640 h 890280"/>
                  </a:gdLst>
                  <a:ahLst/>
                  <a:rect l="textAreaLeft" t="textAreaTop" r="textAreaRight" b="textAreaBottom"/>
                  <a:pathLst>
                    <a:path w="594" h="561">
                      <a:moveTo>
                        <a:pt x="0" y="420"/>
                      </a:moveTo>
                      <a:lnTo>
                        <a:pt x="0" y="560"/>
                      </a:lnTo>
                      <a:lnTo>
                        <a:pt x="593" y="84"/>
                      </a:lnTo>
                      <a:lnTo>
                        <a:pt x="593" y="0"/>
                      </a:lnTo>
                      <a:lnTo>
                        <a:pt x="0" y="420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5" name="Freeform 1040"/>
                <p:cNvSpPr/>
                <p:nvPr/>
              </p:nvSpPr>
              <p:spPr>
                <a:xfrm>
                  <a:off x="3445560" y="4152960"/>
                  <a:ext cx="194040" cy="266400"/>
                </a:xfrm>
                <a:custGeom>
                  <a:avLst/>
                  <a:gdLst>
                    <a:gd name="textAreaLeft" fmla="*/ 0 w 194040"/>
                    <a:gd name="textAreaRight" fmla="*/ 194400 w 194040"/>
                    <a:gd name="textAreaTop" fmla="*/ 0 h 266400"/>
                    <a:gd name="textAreaBottom" fmla="*/ 266760 h 266400"/>
                  </a:gdLst>
                  <a:ahLst/>
                  <a:rect l="textAreaLeft" t="textAreaTop" r="textAreaRight" b="textAreaBottom"/>
                  <a:pathLst>
                    <a:path w="130" h="168">
                      <a:moveTo>
                        <a:pt x="129" y="83"/>
                      </a:moveTo>
                      <a:lnTo>
                        <a:pt x="129" y="167"/>
                      </a:lnTo>
                      <a:lnTo>
                        <a:pt x="0" y="64"/>
                      </a:lnTo>
                      <a:lnTo>
                        <a:pt x="0" y="0"/>
                      </a:lnTo>
                      <a:lnTo>
                        <a:pt x="129" y="83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6" name="Freeform 1041"/>
                <p:cNvSpPr/>
                <p:nvPr/>
              </p:nvSpPr>
              <p:spPr>
                <a:xfrm>
                  <a:off x="2714400" y="4152960"/>
                  <a:ext cx="1389240" cy="1068120"/>
                </a:xfrm>
                <a:custGeom>
                  <a:avLst/>
                  <a:gdLst>
                    <a:gd name="textAreaLeft" fmla="*/ 0 w 1389240"/>
                    <a:gd name="textAreaRight" fmla="*/ 1389600 w 1389240"/>
                    <a:gd name="textAreaTop" fmla="*/ 0 h 1068120"/>
                    <a:gd name="textAreaBottom" fmla="*/ 1068480 h 1068120"/>
                  </a:gdLst>
                  <a:ahLst/>
                  <a:rect l="textAreaLeft" t="textAreaTop" r="textAreaRight" b="textAreaBottom"/>
                  <a:pathLst>
                    <a:path w="929" h="673">
                      <a:moveTo>
                        <a:pt x="0" y="419"/>
                      </a:moveTo>
                      <a:lnTo>
                        <a:pt x="618" y="83"/>
                      </a:lnTo>
                      <a:lnTo>
                        <a:pt x="489" y="0"/>
                      </a:lnTo>
                      <a:lnTo>
                        <a:pt x="901" y="26"/>
                      </a:lnTo>
                      <a:lnTo>
                        <a:pt x="928" y="363"/>
                      </a:lnTo>
                      <a:lnTo>
                        <a:pt x="798" y="250"/>
                      </a:lnTo>
                      <a:lnTo>
                        <a:pt x="205" y="672"/>
                      </a:lnTo>
                      <a:lnTo>
                        <a:pt x="0" y="419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7" name="Freeform 1042"/>
                <p:cNvSpPr/>
                <p:nvPr/>
              </p:nvSpPr>
              <p:spPr>
                <a:xfrm>
                  <a:off x="2714400" y="4817880"/>
                  <a:ext cx="309240" cy="62388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623880"/>
                    <a:gd name="textAreaBottom" fmla="*/ 624240 h 623880"/>
                  </a:gdLst>
                  <a:ahLst/>
                  <a:rect l="textAreaLeft" t="textAreaTop" r="textAreaRight" b="textAreaBottom"/>
                  <a:pathLst>
                    <a:path w="207" h="393">
                      <a:moveTo>
                        <a:pt x="0" y="0"/>
                      </a:moveTo>
                      <a:lnTo>
                        <a:pt x="206" y="252"/>
                      </a:lnTo>
                      <a:lnTo>
                        <a:pt x="206" y="392"/>
                      </a:lnTo>
                      <a:lnTo>
                        <a:pt x="0" y="1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8" name="Freeform 1043"/>
                <p:cNvSpPr/>
                <p:nvPr/>
              </p:nvSpPr>
              <p:spPr>
                <a:xfrm>
                  <a:off x="3909240" y="4551480"/>
                  <a:ext cx="194040" cy="330120"/>
                </a:xfrm>
                <a:custGeom>
                  <a:avLst/>
                  <a:gdLst>
                    <a:gd name="textAreaLeft" fmla="*/ 0 w 194040"/>
                    <a:gd name="textAreaRight" fmla="*/ 194400 w 194040"/>
                    <a:gd name="textAreaTop" fmla="*/ 0 h 330120"/>
                    <a:gd name="textAreaBottom" fmla="*/ 330480 h 330120"/>
                  </a:gdLst>
                  <a:ahLst/>
                  <a:rect l="textAreaLeft" t="textAreaTop" r="textAreaRight" b="textAreaBottom"/>
                  <a:pathLst>
                    <a:path w="130" h="208">
                      <a:moveTo>
                        <a:pt x="0" y="0"/>
                      </a:moveTo>
                      <a:lnTo>
                        <a:pt x="0" y="84"/>
                      </a:lnTo>
                      <a:lnTo>
                        <a:pt x="129" y="207"/>
                      </a:lnTo>
                      <a:lnTo>
                        <a:pt x="129" y="1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89" name="Group 1044"/>
              <p:cNvGrpSpPr/>
              <p:nvPr/>
            </p:nvGrpSpPr>
            <p:grpSpPr>
              <a:xfrm>
                <a:off x="4842720" y="4216320"/>
                <a:ext cx="1387440" cy="1289160"/>
                <a:chOff x="4842720" y="4216320"/>
                <a:chExt cx="1387440" cy="1289160"/>
              </a:xfrm>
            </p:grpSpPr>
            <p:sp>
              <p:nvSpPr>
                <p:cNvPr id="290" name="Freeform 1045"/>
                <p:cNvSpPr/>
                <p:nvPr/>
              </p:nvSpPr>
              <p:spPr>
                <a:xfrm>
                  <a:off x="5033880" y="4614840"/>
                  <a:ext cx="889560" cy="890640"/>
                </a:xfrm>
                <a:custGeom>
                  <a:avLst/>
                  <a:gdLst>
                    <a:gd name="textAreaLeft" fmla="*/ 0 w 889560"/>
                    <a:gd name="textAreaRight" fmla="*/ 889920 w 889560"/>
                    <a:gd name="textAreaTop" fmla="*/ 0 h 890640"/>
                    <a:gd name="textAreaBottom" fmla="*/ 891000 h 890640"/>
                  </a:gdLst>
                  <a:ahLst/>
                  <a:rect l="textAreaLeft" t="textAreaTop" r="textAreaRight" b="textAreaBottom"/>
                  <a:pathLst>
                    <a:path w="595" h="561">
                      <a:moveTo>
                        <a:pt x="594" y="420"/>
                      </a:moveTo>
                      <a:lnTo>
                        <a:pt x="594" y="560"/>
                      </a:lnTo>
                      <a:lnTo>
                        <a:pt x="0" y="84"/>
                      </a:lnTo>
                      <a:lnTo>
                        <a:pt x="0" y="0"/>
                      </a:lnTo>
                      <a:lnTo>
                        <a:pt x="594" y="420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1" name="Freeform 1046"/>
                <p:cNvSpPr/>
                <p:nvPr/>
              </p:nvSpPr>
              <p:spPr>
                <a:xfrm>
                  <a:off x="5304240" y="4216320"/>
                  <a:ext cx="194040" cy="266760"/>
                </a:xfrm>
                <a:custGeom>
                  <a:avLst/>
                  <a:gdLst>
                    <a:gd name="textAreaLeft" fmla="*/ 0 w 194040"/>
                    <a:gd name="textAreaRight" fmla="*/ 194400 w 194040"/>
                    <a:gd name="textAreaTop" fmla="*/ 0 h 266760"/>
                    <a:gd name="textAreaBottom" fmla="*/ 267120 h 266760"/>
                  </a:gdLst>
                  <a:ahLst/>
                  <a:rect l="textAreaLeft" t="textAreaTop" r="textAreaRight" b="textAreaBottom"/>
                  <a:pathLst>
                    <a:path w="130" h="168">
                      <a:moveTo>
                        <a:pt x="0" y="83"/>
                      </a:moveTo>
                      <a:lnTo>
                        <a:pt x="0" y="167"/>
                      </a:lnTo>
                      <a:lnTo>
                        <a:pt x="129" y="64"/>
                      </a:lnTo>
                      <a:lnTo>
                        <a:pt x="129" y="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2" name="Freeform 1047"/>
                <p:cNvSpPr/>
                <p:nvPr/>
              </p:nvSpPr>
              <p:spPr>
                <a:xfrm>
                  <a:off x="4842720" y="4216320"/>
                  <a:ext cx="1387440" cy="1068480"/>
                </a:xfrm>
                <a:custGeom>
                  <a:avLst/>
                  <a:gdLst>
                    <a:gd name="textAreaLeft" fmla="*/ 0 w 1387440"/>
                    <a:gd name="textAreaRight" fmla="*/ 1387800 w 1387440"/>
                    <a:gd name="textAreaTop" fmla="*/ 0 h 1068480"/>
                    <a:gd name="textAreaBottom" fmla="*/ 1068840 h 1068480"/>
                  </a:gdLst>
                  <a:ahLst/>
                  <a:rect l="textAreaLeft" t="textAreaTop" r="textAreaRight" b="textAreaBottom"/>
                  <a:pathLst>
                    <a:path w="928" h="673">
                      <a:moveTo>
                        <a:pt x="927" y="419"/>
                      </a:moveTo>
                      <a:lnTo>
                        <a:pt x="308" y="83"/>
                      </a:lnTo>
                      <a:lnTo>
                        <a:pt x="437" y="0"/>
                      </a:lnTo>
                      <a:lnTo>
                        <a:pt x="25" y="26"/>
                      </a:lnTo>
                      <a:lnTo>
                        <a:pt x="0" y="363"/>
                      </a:lnTo>
                      <a:lnTo>
                        <a:pt x="128" y="250"/>
                      </a:lnTo>
                      <a:lnTo>
                        <a:pt x="722" y="672"/>
                      </a:lnTo>
                      <a:lnTo>
                        <a:pt x="927" y="419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3" name="Freeform 1048"/>
                <p:cNvSpPr/>
                <p:nvPr/>
              </p:nvSpPr>
              <p:spPr>
                <a:xfrm>
                  <a:off x="5921640" y="4883040"/>
                  <a:ext cx="308160" cy="622440"/>
                </a:xfrm>
                <a:custGeom>
                  <a:avLst/>
                  <a:gdLst>
                    <a:gd name="textAreaLeft" fmla="*/ 0 w 308160"/>
                    <a:gd name="textAreaRight" fmla="*/ 308160 w 308160"/>
                    <a:gd name="textAreaTop" fmla="*/ 0 h 622440"/>
                    <a:gd name="textAreaBottom" fmla="*/ 622800 h 622440"/>
                  </a:gdLst>
                  <a:ahLst/>
                  <a:rect l="textAreaLeft" t="textAreaTop" r="textAreaRight" b="textAreaBottom"/>
                  <a:pathLst>
                    <a:path w="206" h="392">
                      <a:moveTo>
                        <a:pt x="205" y="0"/>
                      </a:moveTo>
                      <a:lnTo>
                        <a:pt x="0" y="252"/>
                      </a:lnTo>
                      <a:lnTo>
                        <a:pt x="0" y="391"/>
                      </a:lnTo>
                      <a:lnTo>
                        <a:pt x="205" y="125"/>
                      </a:lnTo>
                      <a:lnTo>
                        <a:pt x="205" y="0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4" name="Freeform 1049"/>
                <p:cNvSpPr/>
                <p:nvPr/>
              </p:nvSpPr>
              <p:spPr>
                <a:xfrm>
                  <a:off x="4842720" y="4614840"/>
                  <a:ext cx="192240" cy="330120"/>
                </a:xfrm>
                <a:custGeom>
                  <a:avLst/>
                  <a:gdLst>
                    <a:gd name="textAreaLeft" fmla="*/ 0 w 192240"/>
                    <a:gd name="textAreaRight" fmla="*/ 192600 w 192240"/>
                    <a:gd name="textAreaTop" fmla="*/ 0 h 330120"/>
                    <a:gd name="textAreaBottom" fmla="*/ 330480 h 330120"/>
                  </a:gdLst>
                  <a:ahLst/>
                  <a:rect l="textAreaLeft" t="textAreaTop" r="textAreaRight" b="textAreaBottom"/>
                  <a:pathLst>
                    <a:path w="129" h="208">
                      <a:moveTo>
                        <a:pt x="128" y="0"/>
                      </a:moveTo>
                      <a:lnTo>
                        <a:pt x="128" y="84"/>
                      </a:lnTo>
                      <a:lnTo>
                        <a:pt x="0" y="207"/>
                      </a:lnTo>
                      <a:lnTo>
                        <a:pt x="0" y="112"/>
                      </a:lnTo>
                      <a:lnTo>
                        <a:pt x="128" y="0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95" name="Group 1050"/>
              <p:cNvGrpSpPr/>
              <p:nvPr/>
            </p:nvGrpSpPr>
            <p:grpSpPr>
              <a:xfrm>
                <a:off x="4049640" y="3476520"/>
                <a:ext cx="861120" cy="898560"/>
                <a:chOff x="4049640" y="3476520"/>
                <a:chExt cx="861120" cy="898560"/>
              </a:xfrm>
            </p:grpSpPr>
            <p:grpSp>
              <p:nvGrpSpPr>
                <p:cNvPr id="296" name="Group 1051"/>
                <p:cNvGrpSpPr/>
                <p:nvPr/>
              </p:nvGrpSpPr>
              <p:grpSpPr>
                <a:xfrm>
                  <a:off x="4049640" y="3476520"/>
                  <a:ext cx="861120" cy="898560"/>
                  <a:chOff x="4049640" y="3476520"/>
                  <a:chExt cx="861120" cy="898560"/>
                </a:xfrm>
              </p:grpSpPr>
              <p:grpSp>
                <p:nvGrpSpPr>
                  <p:cNvPr id="297" name="Group 1052"/>
                  <p:cNvGrpSpPr/>
                  <p:nvPr/>
                </p:nvGrpSpPr>
                <p:grpSpPr>
                  <a:xfrm>
                    <a:off x="4049640" y="3476520"/>
                    <a:ext cx="861120" cy="898560"/>
                    <a:chOff x="4049640" y="3476520"/>
                    <a:chExt cx="861120" cy="898560"/>
                  </a:xfrm>
                </p:grpSpPr>
                <p:grpSp>
                  <p:nvGrpSpPr>
                    <p:cNvPr id="298" name="Group 1053"/>
                    <p:cNvGrpSpPr/>
                    <p:nvPr/>
                  </p:nvGrpSpPr>
                  <p:grpSpPr>
                    <a:xfrm>
                      <a:off x="4049640" y="3476520"/>
                      <a:ext cx="861120" cy="898560"/>
                      <a:chOff x="4049640" y="3476520"/>
                      <a:chExt cx="861120" cy="898560"/>
                    </a:xfrm>
                  </p:grpSpPr>
                  <p:sp>
                    <p:nvSpPr>
                      <p:cNvPr id="299" name="Oval 1054"/>
                      <p:cNvSpPr/>
                      <p:nvPr/>
                    </p:nvSpPr>
                    <p:spPr>
                      <a:xfrm>
                        <a:off x="4049640" y="3476520"/>
                        <a:ext cx="861120" cy="89856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00" name="Oval 1055"/>
                      <p:cNvSpPr/>
                      <p:nvPr/>
                    </p:nvSpPr>
                    <p:spPr>
                      <a:xfrm>
                        <a:off x="4140720" y="3566880"/>
                        <a:ext cx="678600" cy="714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301" name="Oval 1056"/>
                    <p:cNvSpPr/>
                    <p:nvPr/>
                  </p:nvSpPr>
                  <p:spPr>
                    <a:xfrm>
                      <a:off x="4233600" y="3663720"/>
                      <a:ext cx="493200" cy="51912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302" name="Oval 1057"/>
                  <p:cNvSpPr/>
                  <p:nvPr/>
                </p:nvSpPr>
                <p:spPr>
                  <a:xfrm>
                    <a:off x="4321800" y="3759120"/>
                    <a:ext cx="313920" cy="330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03" name="Oval 1058"/>
                <p:cNvSpPr/>
                <p:nvPr/>
              </p:nvSpPr>
              <p:spPr>
                <a:xfrm>
                  <a:off x="4412880" y="3852720"/>
                  <a:ext cx="132840" cy="1414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04" name="Rectangle 1059"/>
            <p:cNvSpPr/>
            <p:nvPr/>
          </p:nvSpPr>
          <p:spPr>
            <a:xfrm>
              <a:off x="6049800" y="2273400"/>
              <a:ext cx="19713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on-Core Competency Function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Rectangle 1060"/>
            <p:cNvSpPr/>
            <p:nvPr/>
          </p:nvSpPr>
          <p:spPr>
            <a:xfrm>
              <a:off x="1066680" y="2273400"/>
              <a:ext cx="22881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igh Cost / Low Productivity Function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Rectangle 1061"/>
            <p:cNvSpPr/>
            <p:nvPr/>
          </p:nvSpPr>
          <p:spPr>
            <a:xfrm>
              <a:off x="1214640" y="4635360"/>
              <a:ext cx="14234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Layered Function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Rectangle 1062"/>
            <p:cNvSpPr/>
            <p:nvPr/>
          </p:nvSpPr>
          <p:spPr>
            <a:xfrm>
              <a:off x="6280920" y="4635360"/>
              <a:ext cx="21006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ighly Leveragable Function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08" name="Text Box 1063"/>
          <p:cNvSpPr/>
          <p:nvPr/>
        </p:nvSpPr>
        <p:spPr>
          <a:xfrm>
            <a:off x="1371600" y="15238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Outsourcing is the new “Mantra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E1BB-67D1-4B82-A88B-76D77B1605E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re are Opportunities to change Government Environment - 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827000"/>
            <a:ext cx="853416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Paradigm Shift in Procurement Process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66"/>
                </a:solidFill>
                <a:latin typeface="Times New Roman"/>
              </a:rPr>
              <a:t>Service procurement against Product procurement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ICT Imperatives – Government Onlin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66"/>
                </a:solidFill>
                <a:latin typeface="Times New Roman"/>
              </a:rPr>
              <a:t>Technology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66"/>
                </a:solidFill>
                <a:latin typeface="Times New Roman"/>
              </a:rPr>
              <a:t>GPR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66"/>
                </a:solidFill>
                <a:latin typeface="Times New Roman"/>
              </a:rPr>
              <a:t>Change Management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66"/>
                </a:solidFill>
                <a:latin typeface="Times New Roman"/>
              </a:rPr>
              <a:t>Legal Chang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89A2-20E7-4D00-BE9F-5D72575C490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re are Opportunities to change Government Environment - I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2088720"/>
            <a:ext cx="853416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ublic - Private Partnership is the key ?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Public i.e., Government has to be the driving force behind partnership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Given the scale of required resources, PPPs are necessary to enlist private funds for public project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A42B-2B5A-426D-B0A8-FDD7BC6217C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re are Opportunities to change Government Environment - II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902960"/>
            <a:ext cx="8534160" cy="43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PPP for core government functioning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66"/>
                </a:solidFill>
                <a:latin typeface="Times New Roman"/>
              </a:rPr>
              <a:t>Structuring of Front-end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66"/>
                </a:solidFill>
                <a:latin typeface="Times New Roman"/>
              </a:rPr>
              <a:t>Structuring of Back-end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66"/>
                </a:solidFill>
                <a:latin typeface="Times New Roman"/>
              </a:rPr>
              <a:t>Middleware for all Technical, Financial and Management parameter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Sustainability through PPP business models for reduction of cost of delivery of servic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F8A0-72B3-4F29-B043-2D94CE0F552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54160" y="164880"/>
            <a:ext cx="861048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ublic Private-Partnership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for changed Governance Business Mode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2052360"/>
            <a:ext cx="853416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Combining accountability with efficiency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Pace of Implementatio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Resource Sharing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Complexity &amp; size of projec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Weathering the storm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Times New Roman"/>
              </a:rPr>
              <a:t>Creating stakes outside system of Governance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32AB-1D5D-417E-B3D4-27D4699D5EE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CT can leverage PPP more efficientl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rivate participation in ICT projects can enable scarce government resources to be used for other social servic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an improve efficiency of ICT use by bringing in innovative project desig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ould delegate activities and risks to those best able to bear them – tasks and functions from outside rather than performed in-hous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haring of knowledge, infrastructure, data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Opportunity to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Use of specialist servic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Give longer term flexibility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Increases capabilities and capacity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812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Challenges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in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e-Governance Implem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Organizations that are driven over by ICT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mains on the mercy of consultants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mains on the mercy of ICT product vendor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ends to lose strategic control over their e-Governance programs. 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9025-3646-4008-A85A-5005376CAB0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9844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Key Challenges for Governmen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utting in place the right policies and strategi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reating, sustaining and strengthening the necessary institutional mechanism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nsuring robust and appropriate funding stream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sistance from vested interests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reating and nurturing administrative and political capacities and structures to drive project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Getting multiple organizations and people to work together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reating, training, empowering, incentivizing and stabilizing project leader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CT Infrastructur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4B76-3DDC-4D5C-9318-3B5C56583B8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79000" y="228600"/>
            <a:ext cx="88390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per Conceptualization and Plann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eploy adequate skill and expertise for proper conceptualization and planning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llocate financial resources for Project Developmen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dicate clear objectives, define intermediate milestones and identify ultimate deliverabl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ssess feasibility, risks and strategiz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rash out Implementation Pla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BF38-15D0-4572-9B57-B6B71A90284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nvisioning Realistic Miss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trategize the Mission keeping in view of the limitations of Govt. processes.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ddress the procedural, departmental, legal and even the constitutional constraints in the project implementation plan.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ropose solutions which are practical and achievabl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void gap between Vision and Reality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Manage the stakeholders’ aspirations efficiently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3B72-49A5-4563-8941-EC6176C49B2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600" y="126720"/>
            <a:ext cx="8763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nderstanding Governance well to implement e-Governa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ppreciate the government processes and the institution of governanc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ry to fit solutions in the governance needs subject to Governance Process Re-engineering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alize that Governance is a complex structure having social, economic and political ramifications of every decision it tak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2E70-CF5E-4E41-AAA3-4988A1A9DC4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op Leadership to Initiate Refor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Lower strata adopted well so far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Example: Railways, Public Sector Banks, Postal Servic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stitutionalize the on-going reform process to remain unaffected with change of guard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mpart skills at the top levels to make them efficient ‘Change Agents’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609480" y="5715000"/>
            <a:ext cx="8001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66"/>
                </a:solidFill>
                <a:latin typeface="Times New Roman"/>
              </a:rPr>
              <a:t>Break the bottleneck at the Top of the Bott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410E-25AF-4039-9322-B80472C270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signing the Solutions as per the Need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o not allow vendor-driven solutions to shadow or override your need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cquire requisite basic skills and expertise to understand your needs for hardware, software, databases, operating systems etc.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096F-610D-4E75-AC8F-C71A39953C0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8390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cusing on Governance rather than ‘e’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ppreciate that e-Governance is not about I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member that e-Governance is abou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20% Technology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35% Govt. Process Re-engineering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40% Change Management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5% Luck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ocus on governance elements move, IT as an enabler for improved governanc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FA08-A5FA-435E-8937-2BC75C276B0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dentification of the Stakehold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dentify all the Stakeholders in the projec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dopt outside-in approach rather than inside-out approach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onsult all stakeholders to capture their needs to make it win-win for every one of them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3F4A-80BB-4F28-8258-6880F812C28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signing the Project with Realistic Timelin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stimate the efforts properly to arrive at realistic timelines for the deliverabl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llow adequate time for training and adoption by stakeholder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o not compromise quality in racing for unrealistic timelin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fter all, Rome was not built in a Day!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FC3E-FD15-4C58-9948-1B3D212524D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stitutionalization of Projec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stitutionalize the project processes after it is initiated by a Champio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stablish Project/ Program Management Units, wherever feasibl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organization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ure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in management and governance disciplines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cognizes  </a:t>
            </a:r>
            <a:r>
              <a:rPr b="1" lang="en-US" sz="2400" spc="-1" strike="noStrike">
                <a:solidFill>
                  <a:srgbClr val="92d050"/>
                </a:solidFill>
                <a:latin typeface="Times New Roman"/>
              </a:rPr>
              <a:t>ICT as a tool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o achieve their goal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ey drive and manage their </a:t>
            </a:r>
            <a:r>
              <a:rPr b="1" lang="en-US" sz="2400" spc="-1" strike="noStrike">
                <a:solidFill>
                  <a:srgbClr val="92d050"/>
                </a:solidFill>
                <a:latin typeface="Times New Roman"/>
              </a:rPr>
              <a:t>ICT resources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nd </a:t>
            </a:r>
            <a:r>
              <a:rPr b="1" lang="en-US" sz="2400" spc="-1" strike="noStrike">
                <a:solidFill>
                  <a:srgbClr val="92d050"/>
                </a:solidFill>
                <a:latin typeface="Times New Roman"/>
              </a:rPr>
              <a:t>Partner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o align with their objectives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Times New Roman"/>
              </a:rPr>
              <a:t>Achieve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great results out of their e-Governance program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605C-0D86-4756-B08F-E2FC533E9F2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voiding Procedural Loop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esign carefully the project process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Sometimes project approval processes take more time than implementation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stablish Empowered Committee, wherever feasible in place of long approval process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2180-FF4C-4045-A189-5848C6844C6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ncouragement to Reform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dopt a policy to encourage Reformer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arefully discourage “Doubting Thomases”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centivise lower level operating staff, wherever feasibl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06C6-FC94-4C37-B531-4F1EBC65E35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cessity of Back-office e-Governa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ddress all the issues of back-office e-Governance at the planning stag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tegrate the back-office applications with front-office deliverabl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922E-464A-4A07-89E8-90A20F6D794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stainable Business Mode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esign a sustainable business model, alway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dopt appropriate PPP model, wherever feasibl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Technology, Manpower, Other resourc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Understand PPP to clarity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PPP is not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ublic Money for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rivate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artners !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Appreciate the meaning of Partnership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5390-B355-4628-8CC2-AB3AE24E84C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ink Big, Start Small, Scale Fas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o not initiate the Project for high-scale implementatio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o not take up Big Bang approach which proposes radical changes in the processes leading to high level of resistance and constraint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One needs to warn up before taking a race !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1C5D-0AE1-4126-AF2B-44F8F1A6595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dequate Stakeholder Consult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onsult Stakeholders as much as possible to capture their perception and expectatio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o not neglect any advocacy coming externally and even internally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ccommodate all suggestions as far as feasible to increase acceptability of the project at a later stag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580D-A374-4309-BDE1-94C7A499CBD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entralized Initiative, De-centralized Implement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esign ownership of the project appropriately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arry out detailed Feasibility Study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tegrate necessary linkages for federal, state and local level governance activiti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itiate Pilot implementation with detailed Plan roll-out in phas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4C07-0E7F-499A-9041-61A04D94342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 and Conclusion - 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 e-Governance it is possible to govern the least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ere are opportunities to advance the agenda of good governance by providing transparency, efficiency, accountability, reliability and empowermen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ere is an opportunity to provide paradigm shift in the entire government procurement processes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ere is a possibility of utilizing external expertise, resources through PPP mod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“Connected Government”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can be actually realized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-Governance need be properly conceptualized and planned addressing the ground realities and constraint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ACBD-F73B-4A83-981B-6AA30D07D7F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 and Conclusion - I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ill of Top Leadership is essentia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Governance should get priority over IT system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takeholders’ consultation is essentia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stitutionalization of the project is essential for its sustainability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novation should be encouraged and incentivised while radical and big changes should be avoided as far as possibl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ppropriate PPP model may be the key to success for most of the e-governance project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C9FA-FE7E-4C07-83F8-134DBE1D30A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 G2C: Bhoomi</a:t>
            </a: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line Delivery of Land Records - I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Computerisation of land records in Karnataka (Bhoomi project) has reduced delivery time of records to farmers to just 15 minutes.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Bhoomi has improved the transparency and convenience of service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First phase of computerisation of Bhoomi was completed in 2002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Printed copy of RTC can be obtained within minutes for a fee of Rs.15 only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f2f2"/>
                </a:solidFill>
                <a:latin typeface="Times New Roman"/>
              </a:rPr>
              <a:t>Paradigm Shift in Technology &amp; Applications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8B6F-929A-4B36-A057-81DE8ECFA68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 G2C: Bhoomi</a:t>
            </a: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line Delivery of Land Records - II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spcAft>
                <a:spcPts val="300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roject Featur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239"/>
              </a:spcBef>
              <a:spcAft>
                <a:spcPts val="2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7 million farmer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1239"/>
              </a:spcBef>
              <a:spcAft>
                <a:spcPts val="2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20 million land record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1239"/>
              </a:spcBef>
              <a:spcAft>
                <a:spcPts val="2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27,000 villag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1239"/>
              </a:spcBef>
              <a:spcAft>
                <a:spcPts val="2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omputer terminals operated by trained staff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6E8F-8166-4EB3-996D-A3D4111D15A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 G2C: Bhoomi</a:t>
            </a: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line Delivery of Land Records - III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Key Benefits of Bhoomi: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200% increase in mutation request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Rise in revenue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Greater efficiency in service delivery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ecrease in corruption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5E68-30BE-46B4-B8AE-FF31C718E23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 G2B: MCA21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spcAft>
                <a:spcPts val="451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MCA21 e-Governance project launched by the Ministry of Corporate Affairs in February, 2006 offers easy, secure services to businesses.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spcAft>
                <a:spcPts val="451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ervices are delivered through 3 channels: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64"/>
              </a:spcBef>
              <a:spcAft>
                <a:spcPts val="414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Virtual Front Offices (VFO) / MCA21 portal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964"/>
              </a:spcBef>
              <a:spcAft>
                <a:spcPts val="414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Physical Front Offices (PFO)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964"/>
              </a:spcBef>
              <a:spcAft>
                <a:spcPts val="414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ertified Filing Centres (CFC)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ED9A-02BF-4790-9648-2060CFB1964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 G2B: MCA21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1049"/>
              </a:spcBef>
              <a:spcAft>
                <a:spcPts val="901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Key Services provided by the projec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964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Registration and incorporation of a new company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964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ownloading of e-forms; annual and event-based filing of documents e.g., annual returns, balance sheets, profit and loss account statements etc.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964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Payment of penalty and fe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964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Tracking and redressal of complaints relating to shares, dividends, etc.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F70D-8A72-471F-888B-2AA27BDBD77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 G2B: MCA21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spcAft>
                <a:spcPts val="451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enefits to Businesses: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825"/>
              </a:spcBef>
              <a:spcAft>
                <a:spcPts val="414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Easy registration of companies &amp; filing of return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825"/>
              </a:spcBef>
              <a:spcAft>
                <a:spcPts val="414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Elimination of middlemen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825"/>
              </a:spcBef>
              <a:spcAft>
                <a:spcPts val="414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Greater transparency &amp; speed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825"/>
              </a:spcBef>
              <a:spcAft>
                <a:spcPts val="414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Better scrutiny &amp; follow up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751"/>
              </a:spcBef>
              <a:spcAft>
                <a:spcPts val="37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088E-9787-427F-8C7F-E14140ACD3C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 G2B: MCA21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enefits to Citizens: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Quick &amp; easy access to record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Grievance redressal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0">
              <a:spcBef>
                <a:spcPts val="751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2557-1E72-4E32-BC58-9EDD57D9CF1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 G2B: MCA21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enefits to Financial Institutions: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Registration &amp; verification of charges of compani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To the Ministry of Corporate Affair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Better compliance with Company Law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0">
              <a:spcBef>
                <a:spcPts val="751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685800" y="51055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,000 balance sheets &amp; annual returns have been filed by companies using MCA21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C56F-30EB-404D-8C01-3D5B1330676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 G2G: Khajane</a:t>
            </a: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uterisation of Treasuries in Karnataka - I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Key Featur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Electronic Stamping of Bill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Online Budget System (OBS)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Rapid Data Transfer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lassification of Expens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Khajane invloved networking of all 31 district and 185 sub-treasurie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B8A5-AEA3-4A9F-A71A-03D300AC693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89154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 G2G: Khajane</a:t>
            </a: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uterisation of Treasuries in Karnataka - II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spcAft>
                <a:spcPts val="601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Key Benefits: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64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Optimization / Reduction of Manpower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64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Reduction of Payment Approval Time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64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Rapid access to District-wise Data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64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Reduced scope for corruption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64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Timely, hassle-free payment of bills &amp; pension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64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ecrease in misappropriation and misclassification of fund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1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C910-20E0-48DD-9790-165B10607A4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 G2E: e-Pension</a:t>
            </a: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Boon for retired government employe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spcAft>
                <a:spcPts val="601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-Pension enables pensioners to determine the status and details of their monthly pension online and makes available complete details about their pensions for a 12-month period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spcAft>
                <a:spcPts val="601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-Pension scheme eliminates issues of manual service delivery such a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64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Human errors and slow delivery time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64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Poor redressal mechanism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64"/>
              </a:spcBef>
              <a:spcAft>
                <a:spcPts val="55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Faulty payments</a:t>
            </a:r>
            <a:endParaRPr b="1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World of Automobi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e Fuel Price is sky-rocketing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nvironment getting more polluted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Oil Resources getting depleted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e entire Automotive World is very serious about Electric Car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b0b0"/>
                </a:solidFill>
                <a:latin typeface="Times New Roman"/>
              </a:rPr>
              <a:t>By 2015 Electric Cars on the roads will not remain a rare sight !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world of Computing Devi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ablets will be everywhere in next 5 years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2d050"/>
                </a:solidFill>
                <a:latin typeface="Times New Roman"/>
              </a:rPr>
              <a:t>By 2015 carrying a laptop will be as uncool a wearing  bell-bottoms  now  !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0:13:28Z</dcterms:created>
  <dc:creator>lily</dc:creator>
  <dc:description/>
  <dc:language>en-US</dc:language>
  <cp:lastModifiedBy>Saptarshi Sanyal</cp:lastModifiedBy>
  <dcterms:modified xsi:type="dcterms:W3CDTF">2014-03-10T06:47:42Z</dcterms:modified>
  <cp:revision>168</cp:revision>
  <dc:subject/>
  <dc:title>Slide 1</dc:title>
</cp:coreProperties>
</file>