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2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22EF-A8B6-48A0-8A16-9DDF5B35E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731-73F4-41BB-9E7B-3FF88CF8609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0A1-5B37-4EFF-9997-8B60018CBF5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6A1DED-6320-42CF-A290-4AD4A05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8E377-BC99-4713-9C45-C7C5D3BA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2DD96-68A3-48C7-9A34-7E1F261C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EE58E-2A44-41F4-9D54-6F30769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E73EC5-CB95-45CF-948F-B4384F1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651495-D5D8-477A-BA3A-79FF927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D28088-ECF0-4ECA-A494-6273C5FE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31158-7D27-4519-A6B6-7228E26F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869AAF-D9C2-437F-A6CC-CB4F3EF1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4953E-B5BA-4203-8C81-64DEB364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09D139-FBF9-44B3-B14D-DC80B8B2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93CC80-B1A1-4BCB-9A09-8308D76E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2C46BA-DF3F-43F4-9C6C-EE714F1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6858BB-4EC8-4F25-8321-B6FF4D3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11EBC-2D0B-48CA-8B68-6DEC3BE2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D33CA3-FEA8-4AF0-8EE3-39F5493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10F8C5-D377-484A-9258-F737CBB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D924B-2469-494E-BADF-93A9BE3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37B64D-8F2B-4EAD-9716-AD1CD04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E33F0F-7AC6-44C8-8268-FBC301F2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431747-8C02-49C4-BBFD-C27D160A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984F7-3064-4CA1-B966-1495D4D5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88594-C232-445B-81D4-833B4397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84332-8439-4D58-8E1E-C37B0D9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81E98-CB8A-4A45-BAC1-937C7005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47F7E-0A07-419A-91C2-DA6C166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C09A2-33C8-4182-8974-9DCDAB6C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50D57-12F6-4C43-BDD6-857E276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39D85-23D8-4F6F-BFAC-B27BF96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A06F9-F964-4BBE-B663-10EB8F7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6E4C-74D8-4296-8428-621A6A4C1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A0499-BB79-4970-9037-7EFBC8C0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BFDC4-BC48-425A-ABF0-4ACAD480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F5B7B-2983-43D0-A5F2-E9A74BA6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112F-60A8-4DEA-89EA-7EC38D2D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3571-CE09-46C8-A453-DC8A3CBC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2F78-C126-4ADA-A94A-ECA5F93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621E-AF95-40F1-B789-713A358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4C56-7846-400B-9779-2659F023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51A8-E073-4B8B-85FD-28D208CD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CDFD-8E8E-44EA-AF74-4013AE3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0358-26E7-4A6A-A0C4-82213AB9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11FB-8888-4F0E-8C93-01519630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432D-A116-408A-B380-9AF96B1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F548-F96F-445E-929E-32DF0FCF4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1BB13-460F-4433-B4DC-FF832126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0A294-F000-4917-AAAA-39DACCC3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9773E-6A60-4DAE-B177-89CA2A80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CCD0-C147-4EC1-84D1-A7F00E7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DD3F3-D915-4B6E-9673-ED3B086A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24E92-A0D7-44BF-8FC4-E474E36E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1F4E2-770A-4731-AFC0-7FA1039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1BAAE-3CB4-4C2A-BBD1-490C323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688D-6126-4140-9FB9-CFF69C09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6999D-41B5-413A-9B04-76188E6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E268A-AF81-42F9-9E06-CCCC8EF5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EE0CC-F9BC-4361-868B-06225E77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4F270-A299-4F74-ACDE-61218875A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150FD-B3C0-4BE1-8A7E-43835B8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BC707-082F-4295-B5F9-EC773EA3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8E291-D8F3-4DCE-818A-EDBBF49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FEFEA-7878-42F0-81F8-0DD189B1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4D072-5415-4410-8CF3-44B02FA6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20A39-B870-4939-A44E-EE4680E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C056E-E6F8-4DDE-BDA7-3B1B4E5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C299D-C46A-4373-8AD9-DCBB01A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CC0F8-3271-4BA0-88D7-26AA1385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D9D25-E0D8-4F6A-8C32-C7DD4E54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24A17-1B4A-440C-A45F-867678A22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B40F6-2D83-4F6E-9FD5-3E4B27FE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3A64D-5506-4881-B583-A90A186A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D7BE6-D3AD-413B-AE16-531E52C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00531-4ACC-4ABA-82A8-D457929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BAE1F-5B57-4CA9-9396-7AC3E87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188E4-2FC4-46C7-858B-DCDB7339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8C717-34F2-4B13-BD15-EF0E9BB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08DB2-A1AD-4A7E-98D4-C04C4D5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F97D2-D58F-4EB2-9524-03FCBE30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5197A-04DE-402E-B090-D778D4F4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55BED-DF8D-48CA-ACF2-590B69E8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89D1A-B805-4424-AB7C-36CEC4A1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6AA43-2A30-4925-BE74-EF8A2F5B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00575-EBFA-46FF-AF7E-4993F7E2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A395C-18D7-4751-8AE3-4617248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772D8-DA35-41FD-8D7C-90730974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D90F2-6DCA-4EBE-B7BB-FA2E6901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7B581C-52DB-420F-97CE-1B82FE2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A91C7-6586-482B-9C81-A57AD7D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B12BD6-0153-44D0-B54D-0A9D50B3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85637-692C-4243-A603-049049BD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CA21D4-94FA-4EC3-AD8F-5E58EF59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B3F79F-6F6F-4ECE-99E0-86CD378A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17587-19F1-4E36-A5F9-A993A4D0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B8890-6719-403B-9775-825FBDBE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AE01B-078E-427C-8A8F-84DE7DBC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EF00BF-E5CA-4D33-B940-282D70D6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5EB4E-25CB-4DAD-8BD6-9D5702B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3323A-3A03-4490-862C-60A1F44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C6D29-EDA5-485C-AAFB-9F4CA29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1907C-F809-466C-B039-745EEFE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01B77-F467-4EF4-971C-4D05D13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23CEC2-02A2-447E-9EBD-D7B9840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DD94A-8FCF-4FD3-9C2A-3FC0D430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981F1-478E-49A1-B1AD-7BA78CC1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58455-BE85-46A4-ADB5-F24E0AC9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58093-4F19-4CE8-8F6F-CE5D3660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A463C8-F333-40DE-9A86-3047C15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F513EA-797A-4B3D-B026-80A5F22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5" descr="Graphic1"/>
          <p:cNvPicPr/>
          <p:nvPr/>
        </p:nvPicPr>
        <p:blipFill>
          <a:blip r:embed="rId2"/>
          <a:stretch/>
        </p:blipFill>
        <p:spPr>
          <a:xfrm>
            <a:off x="8299440" y="6446880"/>
            <a:ext cx="68580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6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07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5BF-48AE-4E97-88DC-91222F3C617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46BC-B72D-49A7-8CA2-8C13A6B6E95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4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5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F2C-1B17-49D0-A6BF-0638B60D83D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753-37EA-4715-AE6E-568CBBDFF71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2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tional Institute for Smart Govern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rchitecting e-Gover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Rectangle 1030"/>
          <p:cNvSpPr/>
          <p:nvPr/>
        </p:nvSpPr>
        <p:spPr>
          <a:xfrm>
            <a:off x="0" y="304920"/>
            <a:ext cx="9144000" cy="144756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Picture 1033" descr="nisg1"/>
          <p:cNvPicPr/>
          <p:nvPr/>
        </p:nvPicPr>
        <p:blipFill>
          <a:blip r:embed="rId2"/>
          <a:srcRect l="5047" t="4486" r="25233" b="0"/>
          <a:stretch/>
        </p:blipFill>
        <p:spPr>
          <a:xfrm>
            <a:off x="1981080" y="304920"/>
            <a:ext cx="1398600" cy="144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4457-9CEE-4213-827C-6BF4A5282C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5" descr="Graphic1"/>
          <p:cNvPicPr/>
          <p:nvPr/>
        </p:nvPicPr>
        <p:blipFill>
          <a:blip r:embed="rId2"/>
          <a:stretch/>
        </p:blipFill>
        <p:spPr>
          <a:xfrm>
            <a:off x="8299440" y="6446880"/>
            <a:ext cx="68580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2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EEF-A3B0-45F3-960A-877B19540C1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27AA-8617-4B1A-A48F-C78A9FD646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2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 Institute for Smart Govern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rchitecting e-Gover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030"/>
          <p:cNvSpPr/>
          <p:nvPr/>
        </p:nvSpPr>
        <p:spPr>
          <a:xfrm>
            <a:off x="0" y="304920"/>
            <a:ext cx="9144000" cy="144756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1033" descr="nisg1"/>
          <p:cNvPicPr/>
          <p:nvPr/>
        </p:nvPicPr>
        <p:blipFill>
          <a:blip r:embed="rId2"/>
          <a:srcRect l="5047" t="4486" r="25233" b="0"/>
          <a:stretch/>
        </p:blipFill>
        <p:spPr>
          <a:xfrm>
            <a:off x="1981080" y="304920"/>
            <a:ext cx="13986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76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723888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1345-BAF0-4668-ACB7-3C8E0C070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1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088-2AC7-4CEF-8538-E9E5F8BCAC8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FA01-DB94-4D05-B9E6-090AC40D26FF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810-FCF2-4C4F-921C-EC3299B2302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11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DDCB-9575-4A49-96D8-A69FACAFF0E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8C2-A5B6-4CC1-B20D-886B79F81A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5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7E9-8E4C-49FF-B5C3-B4E733581FD5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C881-6054-48CF-8DBC-071F44C3B7E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ational Institute for Smart Government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anjiv Mita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Chief Executive Office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March 20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10" name="Picture 4" descr="nisglogo copy"/>
          <p:cNvPicPr/>
          <p:nvPr/>
        </p:nvPicPr>
        <p:blipFill>
          <a:blip r:embed="rId1"/>
          <a:stretch/>
        </p:blipFill>
        <p:spPr>
          <a:xfrm>
            <a:off x="6934320" y="5943600"/>
            <a:ext cx="220968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NISG stands fo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2152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itizen Centric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Services  orient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Institutionaliz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On investments, partnership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Outcome - usage – impa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Process Re-design Need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0" y="5486400"/>
            <a:ext cx="9144000" cy="581400"/>
          </a:xfrm>
          <a:prstGeom prst="rect">
            <a:avLst/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93e0"/>
                </a:solidFill>
                <a:latin typeface="Verdana"/>
              </a:rPr>
              <a:t>A point of view that is appreciated global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Focused Direc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0492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For creating sustainable PPP models for e Governm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For synergizing the efforts of multiple agencies for a common purpos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For planning well, starting small and scaling quickl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5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In making the e Government projects commercially viable investment opportunit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Demonstrated the Possibiliti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Private investments - Investments of more than 2500 crores in the last three yea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ompletion of large projects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hanges in process, legal syst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Transparency, performance orientation, citizen foc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hanges in attitud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Welcome you to explo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exciting world of e-Government!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“Be the Change you want the World to see”</a:t>
            </a:r>
            <a:br>
              <a:rPr sz="32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              - Mahatma Gandhi</a:t>
            </a:r>
            <a:r>
              <a:rPr b="0" lang="en-US" sz="32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nisglogo copy"/>
          <p:cNvPicPr/>
          <p:nvPr/>
        </p:nvPicPr>
        <p:blipFill>
          <a:blip r:embed="rId1"/>
          <a:stretch/>
        </p:blipFill>
        <p:spPr>
          <a:xfrm>
            <a:off x="6629400" y="5943600"/>
            <a:ext cx="2514600" cy="9428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3124080" y="3043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Verdana"/>
                <a:ea typeface="ＭＳ Ｐゴシック"/>
              </a:rPr>
              <a:t>www.nisg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211248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Vision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1" lang="en-IN" sz="2000" spc="-1" strike="noStrike">
                <a:solidFill>
                  <a:srgbClr val="404040"/>
                </a:solidFill>
                <a:latin typeface="Candara"/>
              </a:rPr>
              <a:t>“</a:t>
            </a:r>
            <a:r>
              <a:rPr b="1" lang="en-IN" sz="2000" spc="-1" strike="noStrike">
                <a:solidFill>
                  <a:srgbClr val="404040"/>
                </a:solidFill>
                <a:latin typeface="Candara"/>
              </a:rPr>
              <a:t>Make all Government services accessible to the common man in his locality, through common service delivery outlets and  ensure efficiency, transparency &amp; reliability of such services at affordable costs to realise the basic needs of the common man.”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i="1" lang="en-IN" sz="20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404040"/>
                </a:solidFill>
                <a:latin typeface="Candara"/>
              </a:rPr>
              <a:t>NeGP approved by the Cabinet in May 2006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ational e Governance Plan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13" name="Picture 2" descr="C:\Users\Aruna\AppData\Local\Microsoft\Windows\Temporary Internet Files\Low\Content.IE5\KHLC23PF\j0441394[1].png"/>
          <p:cNvPicPr/>
          <p:nvPr/>
        </p:nvPicPr>
        <p:blipFill>
          <a:blip r:embed="rId1"/>
          <a:stretch/>
        </p:blipFill>
        <p:spPr>
          <a:xfrm>
            <a:off x="6934320" y="4724280"/>
            <a:ext cx="22096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2381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aunched in May, 2006  to improve public service deliver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13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NeGP Includes 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27 Mission Mode Projects (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Candara"/>
                <a:hlinkClick r:id="rId1" action="ppaction://hlinksldjump"/>
              </a:rPr>
              <a:t>MMPs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Core infrastructure components - Service Centres, Data Centres and Wide Area Network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b enabled delivery of services &amp; service leve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rocess re-engineering, change management and project managem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entralized Initiative - Decentralized Implementation : emphasis on PP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National e Governance Plan (NeGP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2305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Incorporated in May 20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Became fully operational in 200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Registered as a Not-for-Profit company under the section 25 of the companies a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Built on public private partnership mod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Governed by board of directors comprising senior civil servants and public figur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ISG - Genesi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To establish itself as a Centre of Excellence in e-Government &amp; to leverage private sector resources through  PPP mode for the spread of e-Governan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2e65"/>
                </a:solidFill>
                <a:latin typeface="Candara"/>
              </a:rPr>
              <a:t>To facilitate application of public and private resources to e-Governance i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trategic Planning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Project Develop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Capacity Building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SzPct val="4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Vision &amp; Mission - NIS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2305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To be the institution that bridges all the gap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Channelize private resources and competencies into e Governance effor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Act as a ‘force multiplier’ to leverage ICT for better citizen service deliver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Suggest high impact e Governance mode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Raise societal awareness about economic impact of smart Governan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  <a:ea typeface="ＭＳ Ｐゴシック"/>
              </a:rPr>
              <a:t>Be the Center of Excellence in e Governan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6e7fc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ＭＳ Ｐゴシック"/>
              </a:rPr>
              <a:t>Mandate of NIS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668160" y="5786280"/>
            <a:ext cx="4970520" cy="459720"/>
          </a:xfrm>
          <a:prstGeom prst="rect">
            <a:avLst/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6296"/>
                </a:solidFill>
                <a:latin typeface="Verdana"/>
              </a:rPr>
              <a:t>Accountability of Public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4260960" y="6396120"/>
            <a:ext cx="3954240" cy="459720"/>
          </a:xfrm>
          <a:prstGeom prst="rect">
            <a:avLst/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6296"/>
                </a:solidFill>
                <a:latin typeface="Verdana"/>
              </a:rPr>
              <a:t>Flexibility of Private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924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NISG provides these services to Ministr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trategic Consult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tudy on Current process, Defining scope, RFP, Selection of right SI’s, etc.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roject Consult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Detailed Project Report, Procurement Process, Bid Management, be the core team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Program Management Un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etting up of PMU within Ministrie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raining and Capacity Build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657360" indent="-246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taffing , Change Management, Build pool of Talent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5bd0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ISG - Charte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0" y="609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Candara"/>
              </a:rPr>
              <a:t>NISG strategy is to fill the critical gaps for e Governance within the customer orga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9238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404040"/>
                </a:solidFill>
                <a:latin typeface="Candara"/>
              </a:rPr>
              <a:t>NISG's expertise  in e-governance  provides a spark to those keen on ushering in good governance through transformation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Govt. Process Reengineer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29" name="Picture 3" descr="http://www.nisg.org/nisg_imgs/42_transformation%20v4.0.jpg"/>
          <p:cNvPicPr/>
          <p:nvPr/>
        </p:nvPicPr>
        <p:blipFill>
          <a:blip r:embed="rId1"/>
          <a:stretch/>
        </p:blipFill>
        <p:spPr>
          <a:xfrm>
            <a:off x="762120" y="2362320"/>
            <a:ext cx="7391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ome Projects At a Glance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314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ndara"/>
              </a:rPr>
              <a:t>Central Government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Commerce 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Department  of Industrial Policy &amp; Promotion  - eBiz , e-Government Procuremen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Department of Food &amp; Public Distribution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TPDS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Labour &amp; Employment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Employment Exchange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Department of Agriculture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Agri MMP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External Affairs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Passport Seva Project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Home Affairs 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CCTNS, Immigration, Visa, Foreigners Registration &amp; Tracking (IVFRT)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Overseas Indian Affairs </a:t>
            </a:r>
            <a:r>
              <a:rPr b="1" lang="en-IN" sz="1400" spc="-1" strike="noStrike">
                <a:solidFill>
                  <a:srgbClr val="404040"/>
                </a:solidFill>
                <a:latin typeface="Candara"/>
              </a:rPr>
              <a:t>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E governance in e Migrate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Corporate Affairs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Comprehensive Restructuring &amp; e Enablement of ITP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Planning Commission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UID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Ministry of Health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Food Import Information System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ndara"/>
              </a:rPr>
              <a:t>State Government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Delhi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IT/Excise, Jal Board, WTDMS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Karnataka, U.P. , Delhi, Rajasthan, Orissa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– CCTNS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West Bengal 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State Assisted Scheme for PF for Unorganized Workers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Kerala - 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E Government procurement for Kerala State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Andhra Pradesh – Department of Health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ndara"/>
              </a:rPr>
              <a:t>Orissa</a:t>
            </a:r>
            <a:r>
              <a:rPr b="0" lang="en-US" sz="1400" spc="-1" strike="noStrike">
                <a:solidFill>
                  <a:srgbClr val="404040"/>
                </a:solidFill>
                <a:latin typeface="Candara"/>
              </a:rPr>
              <a:t>  - Urban CSC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ndara"/>
              </a:rPr>
              <a:t>PSU  - </a:t>
            </a:r>
            <a:r>
              <a:rPr b="0" lang="en-IN" sz="1400" spc="-1" strike="noStrike">
                <a:solidFill>
                  <a:srgbClr val="404040"/>
                </a:solidFill>
                <a:latin typeface="Candara"/>
              </a:rPr>
              <a:t>Bharat Dynamics Limited , Mormugoa Port Trust ,  Central Warehousing Corporation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lvl="1" marL="379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4:28:24Z</dcterms:created>
  <dc:creator>Rita</dc:creator>
  <dc:description/>
  <dc:language>en-US</dc:language>
  <cp:lastModifiedBy>Veerraju</cp:lastModifiedBy>
  <dcterms:modified xsi:type="dcterms:W3CDTF">2014-03-09T17:21:53Z</dcterms:modified>
  <cp:revision>524</cp:revision>
  <dc:subject/>
  <dc:title>Integrated Warehouse Management System</dc:title>
</cp:coreProperties>
</file>